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0383-A785-4F3E-B678-EFA3C98A7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FA94F-7401-4D48-A060-8BF7924BE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28C07-68E2-45D1-B599-080960397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6038A-51FA-4064-80B1-153489BC1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F5AB9-5756-40F4-B07C-2CF51C307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7438-431B-475E-A396-DA3881612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BD4E-5943-4543-9441-57F72B230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A773-9B67-4FE1-BB0B-7D986206B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C2D95-8BF6-4793-A4B7-1A55A0FF6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ABE6B-7E3A-4537-8B1A-18FE2F648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55688-77DA-41C8-BEA0-8D75A8865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C1F3-0849-4080-BA10-ED7644C32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A8140-EE33-46B0-AB66-C8DB9F0D112A}" type="datetime">
              <a:rPr b="0" lang="cs-CZ" sz="1200" spc="-1" strike="noStrike">
                <a:solidFill>
                  <a:srgbClr val="898989"/>
                </a:solidFill>
                <a:latin typeface="Calibri"/>
              </a:rPr>
              <a:t>28.07.20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Plan4all Kick-off Meeting, 14th May 2009, Prag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1445-E077-49C3-96D7-3F8A0093EF0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roperspectives.org/" TargetMode="External"/><Relationship Id="rId2" Type="http://schemas.openxmlformats.org/officeDocument/2006/relationships/hyperlink" Target="mailto:info@europerspectives.or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826560" y="2421000"/>
            <a:ext cx="6945480" cy="3217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СЪТРУДНИЧЕСТВО В ЮГОИЗТОЧНА ЕВРОПА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Arial"/>
              </a:rPr>
              <a:t>ЗА ИНОВАЦИИ И ФИНАНСИРАНЕ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– IFA NETWOR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1.03.2009 – 31.12.2011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Проектът</a:t>
            </a:r>
            <a:r>
              <a:rPr b="0" lang="bg-BG" sz="1800" spc="-1" strike="noStrike">
                <a:solidFill>
                  <a:srgbClr val="000000"/>
                </a:solidFill>
                <a:latin typeface="Calibri"/>
              </a:rPr>
              <a:t> “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E IFA  Network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обединява 11 партньори от десет страни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 Италия, България, Хърватска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,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Гърция, Унгария, Романия Сърбия и Македония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догонващи страни на различни етапи от своя европейски процес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Водещ  партньор и Главен Координатор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Австрия,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 AWS</a:t>
            </a:r>
            <a:r>
              <a:rPr b="1" lang="bg-BG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Austria Wirtschaftsservice Gmb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4" descr="EU+LOGO"/>
          <p:cNvPicPr/>
          <p:nvPr/>
        </p:nvPicPr>
        <p:blipFill>
          <a:blip r:embed="rId1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SEE_colour_jointly"/>
          <p:cNvPicPr/>
          <p:nvPr/>
        </p:nvPicPr>
        <p:blipFill>
          <a:blip r:embed="rId2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6" descr="Neues Bild[1]"/>
          <p:cNvPicPr/>
          <p:nvPr/>
        </p:nvPicPr>
        <p:blipFill>
          <a:blip r:embed="rId3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7" descr=""/>
          <p:cNvPicPr/>
          <p:nvPr/>
        </p:nvPicPr>
        <p:blipFill>
          <a:blip r:embed="rId4"/>
          <a:srcRect l="9560" t="15939" r="26911" b="21015"/>
          <a:stretch/>
        </p:blipFill>
        <p:spPr>
          <a:xfrm>
            <a:off x="6300720" y="333360"/>
            <a:ext cx="1604880" cy="7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ovéPole 14"/>
          <p:cNvSpPr/>
          <p:nvPr/>
        </p:nvSpPr>
        <p:spPr>
          <a:xfrm>
            <a:off x="755640" y="1413000"/>
            <a:ext cx="7128000" cy="474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ондация Евро – Перспективи (ФЕП) 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www.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    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"/>
              </a:rPr>
              <a:t>info@europerspectives.org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Българска организация със статут на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Public Equivalent Body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”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– 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Директива 18/2004, 1л.1) нов тип институционална структура с капацитет за работа в подкрепа на публичния интерес, с амбиция за развитие като неутрален форум за насърчаване на сътрудничеството между България и страните от Юго-Източна Европа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Публични структури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(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Университети,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регионални власти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, бизнес-центрове) и 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частни лица  и сдружения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основаха организацията с цел да разширят влиянието и приложението на принципите  на устойчивото развитие в регио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ФЕП се ръководи от идеологията, принципите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</a:t>
            </a: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 работните методи на регионалните мрежи, 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които с  успех мобилизира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	</a:t>
            </a:r>
            <a:r>
              <a:rPr b="0" lang="bg-BG" sz="1600" spc="-1" strike="noStrike">
                <a:solidFill>
                  <a:srgbClr val="000000"/>
                </a:solidFill>
                <a:latin typeface="Calibri"/>
                <a:ea typeface="Arial"/>
              </a:rPr>
              <a:t>ресурси – човешки и финансови, за намаляване на различията в развитието на  Европа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7" descr="EPF_logo"/>
          <p:cNvPicPr/>
          <p:nvPr/>
        </p:nvPicPr>
        <p:blipFill>
          <a:blip r:embed="rId3"/>
          <a:stretch/>
        </p:blipFill>
        <p:spPr>
          <a:xfrm>
            <a:off x="3132000" y="333360"/>
            <a:ext cx="258156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ovéPole 6"/>
          <p:cNvSpPr/>
          <p:nvPr/>
        </p:nvSpPr>
        <p:spPr>
          <a:xfrm>
            <a:off x="611280" y="1773360"/>
            <a:ext cx="784836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сновна цел на  прое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крепване на капацитета на организациите – партньори  за ефективно предоставяне на подкрепа на МСП в областта на иновациите  и трансфера на технологии  чрез изграждане на европейска платформа за трансфер на знания и умения и  чрез осъществяване на конкретни съвместни инициативи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Специфични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Идентифициране на нужди и дефицити -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95%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от МСП са изправени пред сериозни структурни проблем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каналите за обмен и трансфер на знания и умения чрез анализ на съществуващите инструменти и чрез идентифициране  или разработване на преносими елемент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У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крепване на съществуващата бизнес среда чрез създаване на нови  възможности за финансиране и чрез изграждане на Патентен и Лицензен Фонд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С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ъздаване на  Иновационни &amp; Финансови Агенции, притежаващи адекватно портофолио за подкрепа на иновативни и технологични дей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bg-BG" sz="1600" spc="-1" strike="noStrike">
                <a:solidFill>
                  <a:srgbClr val="000000"/>
                </a:solidFill>
                <a:latin typeface="Arial"/>
                <a:ea typeface="Arial"/>
              </a:rPr>
              <a:t>Усъвършенстване на  капацитета на местните актьори и експерти чрез консултантски дейности, обучение, обмен на готови схеми и специали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ástupný symbol pro zápatí 5"/>
          <p:cNvSpPr/>
          <p:nvPr/>
        </p:nvSpPr>
        <p:spPr>
          <a:xfrm>
            <a:off x="2928960" y="6356520"/>
            <a:ext cx="3286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6" descr="EPF_logo"/>
          <p:cNvPicPr/>
          <p:nvPr/>
        </p:nvPicPr>
        <p:blipFill>
          <a:blip r:embed="rId1"/>
          <a:stretch/>
        </p:blipFill>
        <p:spPr>
          <a:xfrm>
            <a:off x="6372360" y="115920"/>
            <a:ext cx="2581200" cy="12571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EU+LOGO"/>
          <p:cNvPicPr/>
          <p:nvPr/>
        </p:nvPicPr>
        <p:blipFill>
          <a:blip r:embed="rId2"/>
          <a:stretch/>
        </p:blipFill>
        <p:spPr>
          <a:xfrm>
            <a:off x="250920" y="115920"/>
            <a:ext cx="1439640" cy="13096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SEE_colour_jointly"/>
          <p:cNvPicPr/>
          <p:nvPr/>
        </p:nvPicPr>
        <p:blipFill>
          <a:blip r:embed="rId3"/>
          <a:stretch/>
        </p:blipFill>
        <p:spPr>
          <a:xfrm>
            <a:off x="1979640" y="33336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9" descr="Neues Bild[1]"/>
          <p:cNvPicPr/>
          <p:nvPr/>
        </p:nvPicPr>
        <p:blipFill>
          <a:blip r:embed="rId4"/>
          <a:stretch/>
        </p:blipFill>
        <p:spPr>
          <a:xfrm>
            <a:off x="4211640" y="404640"/>
            <a:ext cx="1870200" cy="63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4920" y="1773000"/>
            <a:ext cx="8458200" cy="28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Методологичен подход &amp; Инструменти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нализи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ционални изслед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дентифициране на “добри практики”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техники за “добро управление”, на административен капаците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адекватно портофолио на агенциите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Оценк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в контекст на качествени и количествени критерии, препоръки и корективни мерк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Прототип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нов финансов инструмент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amp;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егулации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оперативни структури,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биране на финансови средства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елекция на пилотни структур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Стартиране на пилотна фаза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бизнес планове, ръководства &amp; наръчници, маркетингови проучвания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, разработване на адекватно портофолио за финансовите институ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Консултиран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на стартиращи финансови институции, интензивно обучение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Национална подкрепа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Национална Група за подкрепа с цел гарантиране на устойчивост на  постигнатите резултати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EPF_logo"/>
          <p:cNvPicPr/>
          <p:nvPr/>
        </p:nvPicPr>
        <p:blipFill>
          <a:blip r:embed="rId1"/>
          <a:stretch/>
        </p:blipFill>
        <p:spPr>
          <a:xfrm>
            <a:off x="6559560" y="404640"/>
            <a:ext cx="2584440" cy="126216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4"/>
          <p:cNvSpPr/>
          <p:nvPr/>
        </p:nvSpPr>
        <p:spPr>
          <a:xfrm flipV="1">
            <a:off x="611280" y="1222200"/>
            <a:ext cx="777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7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8" descr="Neues Bild[1]"/>
          <p:cNvPicPr/>
          <p:nvPr/>
        </p:nvPicPr>
        <p:blipFill>
          <a:blip r:embed="rId4"/>
          <a:stretch/>
        </p:blipFill>
        <p:spPr>
          <a:xfrm>
            <a:off x="4356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 &amp; ФОНД</a:t>
            </a: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ИНСТРУМЕНТИ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–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Разработване на финансови инструменти в  подкрепа на иновативни практики и внедряване на нови технологии от МСП – управление на знанието, улесняване на достъп до финансиране, разработване на нови финансови регулации</a:t>
            </a:r>
            <a:br>
              <a:rPr sz="1400"/>
            </a:br>
            <a:br>
              <a:rPr sz="14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ФОНД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Трансграничен Фонд  за Патенти и Лицензи – разработаване на примерна законова рамка, на адекватно портофолио,  анализ на основните “потребители”, интегриране на частния сектор в  пилотна фаз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2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11280" y="184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АГЕНЦИЯТА</a:t>
            </a:r>
            <a:br>
              <a:rPr sz="1600"/>
            </a:br>
            <a:br>
              <a:rPr sz="1600"/>
            </a:b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Създаване на  Агенция за Иновации</a:t>
            </a:r>
            <a:r>
              <a:rPr b="1" lang="bg-BG" sz="1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bg-BG" sz="1400" spc="-1" strike="noStrike">
                <a:solidFill>
                  <a:srgbClr val="000000"/>
                </a:solidFill>
                <a:latin typeface="Arial"/>
              </a:rPr>
              <a:t>и Финансиране – концепция и приложението й, програми и инструменти, обучение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3" descr="EPF_logo"/>
          <p:cNvPicPr/>
          <p:nvPr/>
        </p:nvPicPr>
        <p:blipFill>
          <a:blip r:embed="rId1"/>
          <a:stretch/>
        </p:blipFill>
        <p:spPr>
          <a:xfrm>
            <a:off x="6767640" y="333360"/>
            <a:ext cx="2376360" cy="1160640"/>
          </a:xfrm>
          <a:prstGeom prst="rect">
            <a:avLst/>
          </a:prstGeom>
          <a:ln w="0">
            <a:noFill/>
          </a:ln>
        </p:spPr>
      </p:pic>
      <p:sp>
        <p:nvSpPr>
          <p:cNvPr id="69" name="Rectangle 4"/>
          <p:cNvSpPr/>
          <p:nvPr/>
        </p:nvSpPr>
        <p:spPr>
          <a:xfrm flipV="1">
            <a:off x="826920" y="2208960"/>
            <a:ext cx="777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EU+LOGO"/>
          <p:cNvPicPr/>
          <p:nvPr/>
        </p:nvPicPr>
        <p:blipFill>
          <a:blip r:embed="rId2"/>
          <a:stretch/>
        </p:blipFill>
        <p:spPr>
          <a:xfrm>
            <a:off x="395280" y="260280"/>
            <a:ext cx="1440000" cy="13096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SEE_colour_jointly"/>
          <p:cNvPicPr/>
          <p:nvPr/>
        </p:nvPicPr>
        <p:blipFill>
          <a:blip r:embed="rId3"/>
          <a:stretch/>
        </p:blipFill>
        <p:spPr>
          <a:xfrm>
            <a:off x="2195640" y="476280"/>
            <a:ext cx="1819080" cy="7239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Neues Bild[1]"/>
          <p:cNvPicPr/>
          <p:nvPr/>
        </p:nvPicPr>
        <p:blipFill>
          <a:blip r:embed="rId4"/>
          <a:stretch/>
        </p:blipFill>
        <p:spPr>
          <a:xfrm>
            <a:off x="4572000" y="549360"/>
            <a:ext cx="2087640" cy="70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20T11:55:53Z</dcterms:created>
  <dc:creator>Tomas Mildorf</dc:creator>
  <dc:description/>
  <dc:language>en-US</dc:language>
  <cp:lastModifiedBy>Andreas Beeker</cp:lastModifiedBy>
  <dcterms:modified xsi:type="dcterms:W3CDTF">2016-09-16T19:41:36Z</dcterms:modified>
  <cp:revision>116</cp:revision>
  <dc:subject/>
  <dc:title>Snímek 1</dc:title>
</cp:coreProperties>
</file>