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0789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07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160280" y="681120"/>
            <a:ext cx="4538520" cy="3403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move the slide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7"/>
          </p:nvPr>
        </p:nvSpPr>
        <p:spPr>
          <a:xfrm>
            <a:off x="-36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8"/>
          </p:nvPr>
        </p:nvSpPr>
        <p:spPr>
          <a:xfrm>
            <a:off x="3884400" y="862128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1DAF34DC-F93D-42C2-8613-530D033007A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B0B85FC8-3593-4A08-BA41-EFF933981D72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3884760" y="862164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fld id="{242A0750-7FDE-4C75-B03A-FD609E729C27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60640" y="681120"/>
            <a:ext cx="4538520" cy="340344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11720"/>
            <a:ext cx="5486400" cy="4084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random note information goe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ah blah blah bla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rem ipsum quid pro qu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EE505-C3FE-43B7-B4DF-E33376CCA0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911EF3-0767-4173-BC51-8170FC17C0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E7408-E208-48B1-B388-5E241C61D79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D621E7-603D-49C0-BDF9-83F21956EEE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A773EEB-DD1B-4687-AE77-4011148BF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AE73A0-2FDF-4553-9CFA-A0ABEAF3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72F6A9-772C-41B2-A9F8-8A03EE9B0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77EAE7-C0CF-4336-9555-0D2C6E201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B473ED-C0F2-4455-B747-2CA61C9F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2659CD3-FC0F-4F98-B094-2DCBDAF3E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502138-02E3-46B3-912C-1750552F7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F2213-57AA-414D-832F-DA2E56101A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326BCBE-3018-4494-8D31-4B17EDCDB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75880D-6216-4816-B891-9813BE64E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A26E7F-2A9A-4D16-92BB-80B69FA3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62035E-E8B2-4852-A8BE-6675CE340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820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0640" y="12506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576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820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0640" y="375804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EF6DCB-32E7-40AF-BB58-BF1049190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D02DA-E791-4497-BE74-6F1F99D0F4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D8AF9C-418F-4E5B-A964-72B4E3FB49B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1F5236-779F-4C15-8E44-D0148740308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684360"/>
            <a:ext cx="822636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F1E59-A2D9-42D9-BE73-6E6B8AF3AE5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8D19AE-A95D-4674-9137-67DC245E6E5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800" y="37580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520F7-DEBD-4B09-AFC0-4EF38A1791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576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800" y="125064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5760" y="375804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393FF3-CEBA-4325-82A2-0F80684643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7"/>
          <p:cNvSpPr/>
          <p:nvPr/>
        </p:nvSpPr>
        <p:spPr>
          <a:xfrm>
            <a:off x="0" y="0"/>
            <a:ext cx="9144000" cy="4968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Line 10"/>
          <p:cNvSpPr/>
          <p:nvPr/>
        </p:nvSpPr>
        <p:spPr>
          <a:xfrm>
            <a:off x="1590840" y="220680"/>
            <a:ext cx="0" cy="2667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69B1FC0-E1E0-4C04-8E1B-D4701CCC3754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047760" y="624816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0" y="4978440"/>
            <a:ext cx="9144000" cy="193500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3"/>
          <p:cNvSpPr/>
          <p:nvPr/>
        </p:nvSpPr>
        <p:spPr>
          <a:xfrm>
            <a:off x="0" y="0"/>
            <a:ext cx="9144000" cy="1690560"/>
          </a:xfrm>
          <a:prstGeom prst="rect">
            <a:avLst/>
          </a:prstGeom>
          <a:solidFill>
            <a:srgbClr val="6f89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75"/>
              </a:spcBef>
              <a:buClr>
                <a:srgbClr val="6f89f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9"/>
          <p:cNvSpPr/>
          <p:nvPr/>
        </p:nvSpPr>
        <p:spPr>
          <a:xfrm>
            <a:off x="8550360" y="863640"/>
            <a:ext cx="25236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t">
            <a:spAutoFit/>
          </a:bodyPr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r>
              <a:rPr b="0" lang="en-US" sz="600" spc="-1" strike="noStrike">
                <a:solidFill>
                  <a:srgbClr val="40458c"/>
                </a:solidFill>
                <a:latin typeface="Arial"/>
                <a:ea typeface="Arial"/>
              </a:rPr>
              <a:t>®</a:t>
            </a:r>
            <a:endParaRPr b="1" lang="en-US" sz="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63720"/>
                <a:tab algn="l" pos="1927080"/>
                <a:tab algn="l" pos="2890800"/>
                <a:tab algn="l" pos="3854520"/>
                <a:tab algn="l" pos="4818240"/>
                <a:tab algn="l" pos="5781600"/>
                <a:tab algn="l" pos="6745320"/>
                <a:tab algn="l" pos="7709040"/>
                <a:tab algn="l" pos="8672400"/>
                <a:tab algn="l" pos="9636120"/>
                <a:tab algn="l" pos="10599840"/>
              </a:tabLst>
            </a:pPr>
            <a:endParaRPr b="1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11"/>
          <p:cNvSpPr/>
          <p:nvPr/>
        </p:nvSpPr>
        <p:spPr>
          <a:xfrm flipV="1">
            <a:off x="2079720" y="13604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275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5760" y="12506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25440" indent="-325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1640" indent="-26820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1080" indent="-21600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14520" indent="-217440">
              <a:spcBef>
                <a:spcPts val="499"/>
              </a:spcBef>
              <a:buClr>
                <a:srgbClr val="40458c"/>
              </a:buClr>
              <a:buFont typeface="Arial"/>
              <a:buChar char="-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946160" indent="-217440">
              <a:spcBef>
                <a:spcPts val="499"/>
              </a:spcBef>
              <a:buClr>
                <a:srgbClr val="6f89f7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946160" indent="-217440">
              <a:spcBef>
                <a:spcPts val="499"/>
              </a:spcBef>
              <a:buClr>
                <a:srgbClr val="40458c"/>
              </a:buClr>
              <a:buFont typeface="Arial"/>
              <a:buChar char="•"/>
              <a:tabLst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8764D-FA5B-4D9A-AC4A-AB53653F3902}" type="datetime">
              <a:rPr b="0" lang="en-US" sz="1300" spc="-1" strike="noStrike">
                <a:solidFill>
                  <a:srgbClr val="40458c"/>
                </a:solidFill>
                <a:latin typeface="Tahoma"/>
              </a:rPr>
              <a:t>07/28/26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0458c"/>
                </a:solidFill>
                <a:latin typeface="Tahoma"/>
              </a:rPr>
              <a:t>IBM Confidential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86400" rIns="86400" tIns="43200" bIns="432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C7E9-A71E-4A38-95BC-CFD510289394}" type="slidenum">
              <a:rPr b="0" lang="en-US" sz="13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example.com/foo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Slide Number Placeholder 3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8E2A8004-8765-4173-A290-1F4513FE79E8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lide Number Placeholder 2"/>
          <p:cNvSpPr/>
          <p:nvPr/>
        </p:nvSpPr>
        <p:spPr>
          <a:xfrm>
            <a:off x="-438120" y="14400"/>
            <a:ext cx="1752480" cy="37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6400" rIns="86400" tIns="43200" bIns="432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Page  </a:t>
            </a:r>
            <a:fld id="{5DB0F248-3160-48F0-8AEE-6BAED2A92BCB}" type="slidenum">
              <a:rPr b="1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r>
              <a:rPr b="0" lang="en-US" sz="13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1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5400" y="684360"/>
            <a:ext cx="82263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65080"/>
                <a:tab algn="l" pos="1730520"/>
                <a:tab algn="l" pos="2595600"/>
                <a:tab algn="l" pos="3460680"/>
                <a:tab algn="l" pos="4325760"/>
                <a:tab algn="l" pos="5191200"/>
                <a:tab algn="l" pos="6056280"/>
                <a:tab algn="l" pos="6921360"/>
                <a:tab algn="l" pos="7786800"/>
                <a:tab algn="l" pos="8651880"/>
                <a:tab algn="l" pos="9516960"/>
                <a:tab algn="l" pos="10382400"/>
              </a:tabLst>
            </a:pPr>
            <a:r>
              <a:rPr b="0" lang="en-US" sz="2400" spc="-1" strike="noStrike">
                <a:solidFill>
                  <a:srgbClr val="7889fb"/>
                </a:solidFill>
                <a:latin typeface="Arial"/>
              </a:rPr>
              <a:t>Project Status</a:t>
            </a:r>
            <a:endParaRPr b="0" lang="en-US" sz="2400" spc="-1" strike="noStrike">
              <a:solidFill>
                <a:srgbClr val="7889fb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28600" y="1295280"/>
            <a:ext cx="89154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40458c"/>
                </a:solidFill>
                <a:latin typeface="Arial"/>
                <a:ea typeface="Arial Unicode MS"/>
              </a:rPr>
              <a:t>Participation metrics, </a:t>
            </a:r>
            <a:r>
              <a:rPr b="0" lang="en-GB" sz="1400" spc="-1" strike="noStrike" u="sng">
                <a:solidFill>
                  <a:srgbClr val="6f89f7"/>
                </a:solidFill>
                <a:uFillTx/>
                <a:latin typeface="Arial"/>
                <a:ea typeface="Arial Unicode MS"/>
                <a:hlinkClick r:id="rId1"/>
              </a:rPr>
              <a:t>http://www.example.com/foo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905120"/>
            <a:ext cx="7696080" cy="3202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</a:rPr>
              <a:t>$$PICTUR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6"/>
          <p:cNvSpPr/>
          <p:nvPr/>
        </p:nvSpPr>
        <p:spPr>
          <a:xfrm>
            <a:off x="4724280" y="5334120"/>
            <a:ext cx="3429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t">
            <a:spAutoFit/>
          </a:bodyPr>
          <a:p>
            <a:pPr marL="343080" indent="-343080" algn="r">
              <a:spcBef>
                <a:spcPts val="275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Data current as of 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Arial"/>
              </a:rPr>
              <a:t>$$DATE$$</a:t>
            </a:r>
            <a:endParaRPr b="1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16:18:55Z</dcterms:created>
  <dc:creator>DHJ</dc:creator>
  <dc:description/>
  <dc:language>en-US</dc:language>
  <cp:lastModifiedBy>Don Boulia</cp:lastModifiedBy>
  <dcterms:modified xsi:type="dcterms:W3CDTF">2008-09-09T04:08:07Z</dcterms:modified>
  <cp:revision>1174</cp:revision>
  <dc:subject/>
  <dc:title>Patterns for e-business</dc:title>
</cp:coreProperties>
</file>