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20F777-33DE-4600-8FEE-2E95AF39E5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67187-1CCC-4A89-B8DA-60FA0172E5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D6401A-66B0-4A22-8702-5441810656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2C7D9-9520-4F00-8904-8F08FBB0F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7E47F-5A7B-498B-816E-A150C0640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EE42-D4C4-467E-A539-CC356D941C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E50FC-EA30-44D3-A8F2-3A583E5FF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3717E-34BA-4F3B-B9BF-577740E7FE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27DD0-19CA-438D-B6DD-CE25E0B7FC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F09E9-7823-4024-800A-C75D296E1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1EF46-022B-49AA-B5D8-8238367E3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034F0-C359-49C2-B585-79C01C807B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6A8EE-A66D-4CE4-97F0-2DD3F5056D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rst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lide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slide I adde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6:11:44Z</dcterms:created>
  <dc:creator>Knaan</dc:creator>
  <dc:description/>
  <dc:language>en-US</dc:language>
  <cp:lastModifiedBy>Knaan</cp:lastModifiedBy>
  <dcterms:modified xsi:type="dcterms:W3CDTF">2006-04-07T16:12:52Z</dcterms:modified>
  <cp:revision>3</cp:revision>
  <dc:subject/>
  <dc:title>Slide 1</dc:title>
</cp:coreProperties>
</file>