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E2C0-3A7F-427F-AA83-248F0B6A63B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011C9-AE2C-4E28-B853-B193E16AE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2B40-C7DE-4161-A527-93386240B8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24FF2-9A3A-47E1-9BE6-7FAA00221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DCA32-C679-4CA6-90FC-9A7A00D461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57302B-9A2B-4837-B46A-4D141825C2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3AD41-B42C-4133-8B96-4A80FC583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C2DF-3534-42EA-AD64-E5E83C315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3A98F-46BF-43E5-92AF-61BC653D1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2D25-9FA3-4AC3-BCF6-9434BACEA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06550-0A9A-4694-A68A-32204BC5CF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B38B8-082A-4C95-8C91-B48645F73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e-I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e-I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F68816-B936-45BB-99E7-3FD44D44F700}" type="slidenum">
              <a:rPr b="0" lang="he-I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mple PPT attach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la bla bl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 rtl="1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he-IL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0-06T16:51:51Z</dcterms:created>
  <dc:creator>egur</dc:creator>
  <dc:description/>
  <dc:language>en-US</dc:language>
  <cp:lastModifiedBy>egur</cp:lastModifiedBy>
  <dcterms:modified xsi:type="dcterms:W3CDTF">2005-10-06T16:51:58Z</dcterms:modified>
  <cp:revision>1</cp:revision>
  <dc:subject/>
  <dc:title>Simple PPT attachment</dc:title>
</cp:coreProperties>
</file>