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178-AAD4-4159-B060-920C18059C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F0FA40-F07F-4293-9A96-1782899F55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6F1A-2FDE-4982-A9CD-19F36E67B4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9BC4B-F2B3-46AF-B2D8-D3FC437149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6E063-F873-47CB-85E4-13D8AA73D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94CE5-F2A7-4CDC-9657-6FFC40C77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54C60-552C-4537-8EAD-BF77B1EA6E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54231-7CEC-4F60-8889-87BC7AB13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F23C5-D78C-4CE0-9AE8-D8525D23D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5BAEFE-EFB9-48E7-A34B-426893B3E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F5719-4A56-4AD5-884D-0ECACC0D9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9842A-B305-4103-B7D7-E6F717710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34F422-67FB-401F-89E0-4868D0BA6E2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 PP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42" name="Объект 4"/>
          <p:cNvGraphicFramePr/>
          <p:nvPr/>
        </p:nvGraphicFramePr>
        <p:xfrm>
          <a:off x="1593720" y="1357200"/>
          <a:ext cx="5897520" cy="4070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3" name="Объект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93720" y="1357200"/>
                    <a:ext cx="5897520" cy="4070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7T08:27:11Z</dcterms:created>
  <dc:creator>QA</dc:creator>
  <dc:description/>
  <dc:language>en-US</dc:language>
  <cp:lastModifiedBy>QA</cp:lastModifiedBy>
  <dcterms:modified xsi:type="dcterms:W3CDTF">2012-03-27T08:31:50Z</dcterms:modified>
  <cp:revision>1</cp:revision>
  <dc:subject/>
  <dc:title>Test PPt</dc:title>
</cp:coreProperties>
</file>