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4D2A-FD85-4E1A-A1D2-F424FC759E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90ADC-3366-4238-BD5B-8E764B36D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69C02-FDF2-41C0-B5D6-01CA0F67F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3729-0738-4D71-B098-3363C64D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65177-E761-476B-911D-3E1C8B318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4E8A7-A1C8-4959-B831-87B7DA2D45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824E-89AD-4550-9AA8-D30EAB877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36AE3-845B-4567-83DC-12B27FD779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F838-322D-4977-99BB-791A47330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9DF6-B82E-464E-9AFA-6F2D7F30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93F29-E4AF-45FD-9EE3-9AA7E74B41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957CD-11A5-4A91-88C9-498088EC2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B55D4-AA43-41C3-B57B-1B1EAF1C104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itle, it’s in blac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5840"/>
            <a:ext cx="6400800" cy="213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This is the subtitle, in bol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333399"/>
                </a:solidFill>
                <a:latin typeface="Arial"/>
              </a:rPr>
              <a:t>This bit is blue and ital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00"/>
                </a:solidFill>
                <a:latin typeface="Arial"/>
              </a:rPr>
              <a:t>This bit is red (norm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</a:rPr>
              <a:t>This bit is underlined, and in Times New Roman, but at a larger font size of 24 (rather than 20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7-31T16:35:16Z</dcterms:created>
  <dc:creator>Hogwarts</dc:creator>
  <dc:description/>
  <dc:language>en-US</dc:language>
  <cp:lastModifiedBy>Hogwarts</cp:lastModifiedBy>
  <dcterms:modified xsi:type="dcterms:W3CDTF">2005-08-07T15:07:32Z</dcterms:modified>
  <cp:revision>4</cp:revision>
  <dc:subject/>
  <dc:title>This is a title, it’s in black</dc:title>
</cp:coreProperties>
</file>