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A0B80-7AC8-4ED3-AAF1-6BA4BE019B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567F4-34FD-4789-970C-AD0E358241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B119-7DEB-4753-905C-407755DA50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52EEA-7DCD-4666-B3E8-93FA152D9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9BE1F-C48B-41D7-8164-5D13F34BA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B4AF-1270-44DC-84E8-F7578FF1F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B7FFA-CAA5-4767-ABFD-AF806B5BAD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4554-8C58-40A0-8649-D78ADF286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C2C6F-C033-4B7C-902A-45E727CD9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3C9B2-B5BE-404F-A9C7-87F1E8B3B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E8FC3-E620-4B19-9144-F54288802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855B8-1EF2-4974-81FB-3590B9DD9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sk-SK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FFC35C-2053-4E8F-A42C-CCE8E58FB2EA}" type="slidenum">
              <a:rPr b="0" lang="sk-SK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388880" y="496800"/>
            <a:ext cx="37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s box should be shown just o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4T06:31:01Z</dcterms:created>
  <dc:creator>sk1u05b8</dc:creator>
  <dc:description/>
  <dc:language>en-US</dc:language>
  <cp:lastModifiedBy>sk1u05b8</cp:lastModifiedBy>
  <dcterms:modified xsi:type="dcterms:W3CDTF">2012-02-04T06:33:00Z</dcterms:modified>
  <cp:revision>3</cp:revision>
  <dc:subject/>
  <dc:title>Slide 1</dc:title>
</cp:coreProperties>
</file>