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the Solar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86 Operating Environment</a:t>
            </a:r>
            <a:br>
              <a:rPr sz="18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un your MS-DOS applications on Int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0880" y="152388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 for the Solaris x86 Operating Environment places the combined power of the Solaris and MS-DOS environments at your finger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Merge, Solaris x86 users have access to thousands of off-the-shelf MS-DOS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 also supports Microsoft Windows applications beyond Wab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ftware’s certifi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81480" y="1523880"/>
            <a:ext cx="37339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more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Merge or other SunSoft products, call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800-SUNSOFT (within the U.S.) or 512/434-1511 (outside the U.S.), Prompt #1. Or, access our World Wide Web site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un.com/sunsoft/Products/PC-Integration-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81480" y="4495680"/>
            <a:ext cx="3733920" cy="21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nd out how to purcha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 call 1-800-SUNSOFT (within the U.S.) or 512/434-1511 (outside the U.S.), Prompt #2. Or, contact your local Sun rese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