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8B7-D20F-4A0F-B8B4-A0304FE4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B4A-CED4-4446-820E-44FF82B8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232-7FD6-46BB-BF02-6341185C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C88-FD0E-4A3F-B213-1A148AF5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BF5-807C-463D-B48A-356F68EB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F89-89CB-459B-9893-2CD9DB7A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E1C-BA45-4FE3-B904-84981198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367-DD21-4677-80F9-436443D8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47E-59B5-46B2-BB9C-E59AD450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B97-8FD3-4152-A748-A506ECC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6FC-7F97-4635-BCE2-71243B0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792-4BF6-4E5C-918F-10260C9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84F259-BFF9-418D-A9B0-738259A09849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4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6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20" name="lionnet_logo-large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35528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 -  On the Net We Serv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iedottamisen rinnakkainen medi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85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131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 - organisaatio ja rakenne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on lionien kansainvälinen palveluverkko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58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LionNetin hierark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invälinen taso - LionNet International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nen taso -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LionNet Finland - district 107-B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LC Espoo / Meri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yksilötaso - </a:t>
            </a:r>
            <a:r>
              <a:rPr b="1" lang="en-US" sz="2400" spc="-1" strike="noStrike">
                <a:solidFill>
                  <a:srgbClr val="660066"/>
                </a:solidFill>
                <a:latin typeface="Goudy Old Style"/>
              </a:rPr>
              <a:t>esim.    www.funet.fi/~siissalo</a:t>
            </a:r>
            <a:endParaRPr b="1" lang="en-US" sz="2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erustieto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ukana on nyt n. 50 kansallista ja osavaltiotason LionNet-palvelusolmua (nodes)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kejä noin 480:ään eri lionien Internet-palveluu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Internationalin osoite on www.lionnet.com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Goudy Old Style"/>
              </a:rPr>
              <a:t>Toukokuu 1997</a:t>
            </a:r>
            <a:endParaRPr b="1" lang="en-US" sz="14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nen taso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ansallisella tasolla vain yksi noodi,      esim. LionNet Finland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astuullinen taho on Suomen Lions-liiton tiedotustoimikunnan alainen LionNet-työryhmä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ansallisen tason toimija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odemaster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 - työryhm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en Internet - toimikunn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en Webmaster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piir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perusinformaatio ja hallinto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top ten -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lubeihi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iirin lehti ja PK -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klubi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erusinformaatio ja virkaili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kohtaiset tapahtum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parhaat aktiviteeti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nkit piirin kotisivuill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lubin lehti ja tiedottee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vuosikertomus tms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29040" indent="-3290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henkilötason kotisivut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lla lioneilla on jo omia henkilökohtaisia kotisivuj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näihin pääsee klubin kotisivujen kautta,   jos klubit ja jäsenet itse haluav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oudy Old Style"/>
              </a:rPr>
              <a:t>muista päivitys !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Internet - Intranet ?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ernet - julkinen, kaikille avoin 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Intranet - Internetin  sisäiseen käyttöön suljettu osaverkko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Goudy Old Style"/>
              </a:rPr>
              <a:t>Mieti mikä tieto menee kenelle !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75" name="LN-INTRANETKAAVIO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in käyttäjiä on paljon - miljoona viikoittaista käyttäjää Pohjoismai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oni tuntee Internetin myös liiketoimintansa kautt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ähtökoht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rinomainen vuorovaikutteinen tiedonvälityskanav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liike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harrastustoiminna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kansainvälisen järjestön yhteydenpidossa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...vaihtoehtoinen med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jantasaisin tieto löytyy Internetist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erinteisen median merkitys ei vähene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Internet tarjoaa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aihtoehdo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vuorovaikutte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Goudy Old Style"/>
              </a:rPr>
              <a:t>reaaliaikaisuuden</a:t>
            </a:r>
            <a:endParaRPr b="1" lang="en-US" sz="28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440" y="119160"/>
            <a:ext cx="9142560" cy="6738480"/>
            <a:chOff x="1440" y="119160"/>
            <a:chExt cx="9142560" cy="6738480"/>
          </a:xfrm>
        </p:grpSpPr>
        <p:sp>
          <p:nvSpPr>
            <p:cNvPr id="93" name=""/>
            <p:cNvSpPr/>
            <p:nvPr/>
          </p:nvSpPr>
          <p:spPr>
            <a:xfrm>
              <a:off x="687240" y="6530760"/>
              <a:ext cx="3505320" cy="32688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240" y="2439720"/>
              <a:ext cx="8456760" cy="761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2360" y="11916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360" y="349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360" y="576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2360" y="1035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360" y="1261800"/>
              <a:ext cx="66960" cy="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2360" y="14922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2360" y="1719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2360" y="1949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360" y="217800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39960" y="6672240"/>
              <a:ext cx="4332600" cy="64440"/>
              <a:chOff x="4539960" y="6672240"/>
              <a:chExt cx="4332600" cy="64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399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98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928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6876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860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080" y="6672240"/>
                <a:ext cx="6660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97560" y="6672240"/>
                <a:ext cx="669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07400" y="6672240"/>
                <a:ext cx="65160" cy="6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82360" y="806400"/>
              <a:ext cx="6696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440" y="3695400"/>
              <a:ext cx="1909800" cy="1909440"/>
              <a:chOff x="1440" y="3695400"/>
              <a:chExt cx="1909800" cy="1909440"/>
            </a:xfrm>
          </p:grpSpPr>
          <p:sp>
            <p:nvSpPr>
              <p:cNvPr id="115" name=""/>
              <p:cNvSpPr/>
              <p:nvPr/>
            </p:nvSpPr>
            <p:spPr>
              <a:xfrm>
                <a:off x="1440" y="3801600"/>
                <a:ext cx="703440" cy="163944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000" y="3695400"/>
                <a:ext cx="1308240" cy="190944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2760" y="4500000"/>
                <a:ext cx="100080" cy="11556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in histori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it kansainvälisinä sillanrakentajin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  <p:pic>
        <p:nvPicPr>
          <p:cNvPr id="120" name="lionnet_logo-large" descr=""/>
          <p:cNvPicPr/>
          <p:nvPr/>
        </p:nvPicPr>
        <p:blipFill>
          <a:blip r:embed="rId1"/>
          <a:stretch/>
        </p:blipFill>
        <p:spPr>
          <a:xfrm>
            <a:off x="5257800" y="5638680"/>
            <a:ext cx="355284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BRIDGE1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37160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5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ammikuu: Suomesta Internetin 5. lions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um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LionNet Finland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ensiesittely Kokkolan VK:ss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kansainvälisen LionNet-verkon alku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6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Haminan VK maail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nsimmäisenä lions-kokouksena Internetissä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lokuu: Suomen LionNet-työryhmä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Suomen lionien sähköposti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rraskuu: LionNet International aloitti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maaliskuu: KVN vakinaistaa Suome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LionNet-työryhmän osaksi tiedotustoimikuntaa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huhtikuu: Suomen piirit nimeävät 1. Inter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imikuntapuheenjohtajat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järjestelmällinen Internet-koulutus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aloitetaa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…</a:t>
            </a:r>
            <a:r>
              <a:rPr b="1" lang="en-US" sz="4400" spc="-1" strike="noStrike">
                <a:solidFill>
                  <a:srgbClr val="ffffff"/>
                </a:solidFill>
                <a:latin typeface="Goudy Old Style"/>
              </a:rPr>
              <a:t>LionNet-historiaa</a:t>
            </a:r>
            <a:endParaRPr b="1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1997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toukokuu: Sun lahjoittaa LionNetille oman 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palvelinkone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kesäkuu: Porin VK:ssa näyttävä LionNet-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esiintyminen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>
              <a:spcBef>
                <a:spcPts val="799"/>
              </a:spcBef>
              <a:buClr>
                <a:srgbClr val="660066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oudy Old Style"/>
              </a:rPr>
              <a:t>syyskuu: Europa Forum...</a:t>
            </a: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LionNet-työryhmä</dc:creator>
  <dc:description/>
  <dc:language>en-US</dc:language>
  <cp:lastModifiedBy>Ilkka Siissalo</cp:lastModifiedBy>
  <cp:lastPrinted>1997-05-19T17:52:20Z</cp:lastPrinted>
  <dcterms:modified xsi:type="dcterms:W3CDTF">1997-06-01T10:39:18Z</dcterms:modified>
  <cp:revision>19235</cp:revision>
  <dc:subject/>
  <dc:title>LionNet-esittely</dc:title>
</cp:coreProperties>
</file>