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203-0641-46A7-8648-11507AE9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DAC-E313-487D-AF02-74530193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659-3937-4B52-A4D0-6E7BDF8E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42A-2636-4198-A3DE-14A7722A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4EE-EFB8-41E3-B685-211E8144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D14-3CE9-4EB7-B9D8-6545FF4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839-417D-40BB-89AD-5E6BBF7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8D5-ED11-4161-B350-2B52C01F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505-19E7-4301-B346-EBF2EE2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886-D432-49D5-B323-01B75C0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B5A-A3DC-4416-955D-5499B3D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6F4-EA6C-4095-9BDD-419C1F2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78B228-5249-4F00-9ECF-F7085D51CB89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5-19T18:55:41Z</dcterms:modified>
  <cp:revision>19235</cp:revision>
  <dc:subject/>
  <dc:title>LionNet-esittely</dc:title>
</cp:coreProperties>
</file>