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1670-92A6-4811-A565-976B2801E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AD0B-23F8-4628-AD5B-76FEB8A8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ACA6-84BA-4E8A-A68E-D42AD581D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F6F8-C0F0-4CDE-B247-A18C368B9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7343-A642-4966-8C76-34BFB768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242B-44AD-44F9-B7B0-CC1034CB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71FB-A87E-48FD-A8DB-589F5256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583A-ED2D-4F2F-A744-D75FBC47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DE23-B85C-412D-AC97-E2DA8423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808E-9ADF-4FAB-BD6A-C88731DC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ABE9-D708-476B-8B6B-0BBFEEC7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9F3F-43F7-4209-89E2-C35E3DA8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600E225-C5AF-4DFC-8D69-4EDDB3533C49}" type="slidenum"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4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6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8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Click to edit the outline text form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econd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hird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Four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Fif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ix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even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20" name="lionnet_logo-large" descr=""/>
          <p:cNvPicPr/>
          <p:nvPr/>
        </p:nvPicPr>
        <p:blipFill>
          <a:blip r:embed="rId2"/>
          <a:stretch/>
        </p:blipFill>
        <p:spPr>
          <a:xfrm>
            <a:off x="4952880" y="5257800"/>
            <a:ext cx="3552840" cy="857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8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70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80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  -  On the Net We Serve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858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iedottamisen rinnakkainen medi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85" name="lionnet_logo-large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52840" cy="8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1440" y="119160"/>
            <a:ext cx="9142560" cy="6738480"/>
            <a:chOff x="1440" y="119160"/>
            <a:chExt cx="9142560" cy="6738480"/>
          </a:xfrm>
        </p:grpSpPr>
        <p:sp>
          <p:nvSpPr>
            <p:cNvPr id="131" name=""/>
            <p:cNvSpPr/>
            <p:nvPr/>
          </p:nvSpPr>
          <p:spPr>
            <a:xfrm>
              <a:off x="687240" y="653076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7240" y="2439720"/>
              <a:ext cx="8456760" cy="761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82360" y="11916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82360" y="349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82360" y="576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82360" y="1035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82360" y="126180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82360" y="1492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82360" y="1719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82360" y="1949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82360" y="2178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4539960" y="6672240"/>
              <a:ext cx="4332600" cy="64440"/>
              <a:chOff x="4539960" y="6672240"/>
              <a:chExt cx="4332600" cy="64440"/>
            </a:xfrm>
          </p:grpSpPr>
          <p:sp>
            <p:nvSpPr>
              <p:cNvPr id="143" name=""/>
              <p:cNvSpPr/>
              <p:nvPr/>
            </p:nvSpPr>
            <p:spPr>
              <a:xfrm>
                <a:off x="45399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1498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75928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36876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9786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58808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975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80740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882360" y="806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1440" y="3695400"/>
              <a:ext cx="1909800" cy="1909440"/>
              <a:chOff x="1440" y="3695400"/>
              <a:chExt cx="1909800" cy="1909440"/>
            </a:xfrm>
          </p:grpSpPr>
          <p:sp>
            <p:nvSpPr>
              <p:cNvPr id="153" name=""/>
              <p:cNvSpPr/>
              <p:nvPr/>
            </p:nvSpPr>
            <p:spPr>
              <a:xfrm>
                <a:off x="1440" y="3801600"/>
                <a:ext cx="703440" cy="163944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03000" y="3695400"/>
                <a:ext cx="1308240" cy="190944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42760" y="4500000"/>
                <a:ext cx="100080" cy="11556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 - organisaatio ja rakenne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 on lionien kansainvälinen palveluverkko Internetiss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158" name="lionnet_logo-large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52840" cy="8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...LionNetin hierarki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ansainvälinen taso - LionNet Internationa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ansallinen taso - LionNet Finland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esim.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LionNet Finland - district 107-B</a:t>
            </a:r>
            <a:endParaRPr b="1" lang="en-US" sz="24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esim. LC Espoo / Meri</a:t>
            </a:r>
            <a:endParaRPr b="1" lang="en-US" sz="24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yksilö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esim.    www.funet.fi/~siissalo</a:t>
            </a:r>
            <a:endParaRPr b="1" lang="en-US" sz="24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perustieto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ukana on nyt n. 50 kansallista ja osavaltiotason LionNet-palvelusolmua (nodes)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nkkejä noin 480:ään eri lionien Internet-palveluu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 Internationalin osoite on www.lionnet.com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Goudy Old Style"/>
              </a:rPr>
              <a:t>Toukokuu 1997</a:t>
            </a:r>
            <a:endParaRPr b="1" lang="en-US" sz="14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kansallinen taso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ansallisella tasolla vain yksi noodi,      esim. LionNet Finland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vastuullinen taho on Suomen Lions-liiton tiedotustoimikunnan alainen LionNet-työryhmä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kansallisen tason toimija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Nodemaster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 - työryhm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en Internet - toimikuntapuheenjohtaj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en Internet - toimikunn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en Webmasteri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piiritason kotisivu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n perusinformaatio ja hallinto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jankohtaiset tapahtum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n top ten -aktiviteeti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nkit piirin klubeihi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n lehti ja PK - tiedottee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</a:rPr>
              <a:t>muista päivitys !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klubitason kotisivu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n perusinformaatio ja virkailij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jankohtaiset tapahtum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n parhaat aktiviteeti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nkit piirin kotisivuille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n lehti ja tiedottee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vuosikertomus tms.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</a:rPr>
              <a:t>muista päivitys !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henkilötason kotisivu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onilla lioneilla on jo omia henkilökohtaisia kotisivuj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näihin pääsee klubin kotisivujen kautta,   jos klubit ja jäsenet itse haluav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</a:rPr>
              <a:t>muista päivitys !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Internet - Intranet ?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Internet - julkinen, kaikille avoin verkko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00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Intranet - Internetin  sisäiseen käyttöön suljettu osaverkko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00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oudy Old Style"/>
              </a:rPr>
              <a:t>Mieti mikä tieto menee kenelle !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175" name="LN-INTRANETKAAVIO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ähtökoht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Internetin käyttäjiä on paljon - miljoona viikoittaista käyttäjää Pohjoismaiss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oni tuntee Internetin myös liiketoimintansa kautt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ähtökoht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rinomainen vuorovaikutteinen tiedonvälityskanav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liiketoiminnassa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harrastustoiminnassa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kansainvälisen järjestön yhteydenpidossa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...vaihtoehtoinen medi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jantasaisin tieto löytyy Internetist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erinteisen median merkitys ei vähene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Internet tarjoaa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vaihtoehdon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vuorovaikutteisuuden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reaaliaikaisuuden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1440" y="119160"/>
            <a:ext cx="9142560" cy="6738480"/>
            <a:chOff x="1440" y="119160"/>
            <a:chExt cx="9142560" cy="6738480"/>
          </a:xfrm>
        </p:grpSpPr>
        <p:sp>
          <p:nvSpPr>
            <p:cNvPr id="93" name=""/>
            <p:cNvSpPr/>
            <p:nvPr/>
          </p:nvSpPr>
          <p:spPr>
            <a:xfrm>
              <a:off x="687240" y="653076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7240" y="2439720"/>
              <a:ext cx="8456760" cy="761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82360" y="11916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2360" y="349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82360" y="576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82360" y="1035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82360" y="126180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82360" y="1492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82360" y="1719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82360" y="1949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2360" y="2178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4539960" y="6672240"/>
              <a:ext cx="4332600" cy="64440"/>
              <a:chOff x="4539960" y="6672240"/>
              <a:chExt cx="4332600" cy="64440"/>
            </a:xfrm>
          </p:grpSpPr>
          <p:sp>
            <p:nvSpPr>
              <p:cNvPr id="105" name=""/>
              <p:cNvSpPr/>
              <p:nvPr/>
            </p:nvSpPr>
            <p:spPr>
              <a:xfrm>
                <a:off x="45399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1498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75928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36876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9786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58808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1975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80740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882360" y="806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1440" y="3695400"/>
              <a:ext cx="1909800" cy="1909440"/>
              <a:chOff x="1440" y="3695400"/>
              <a:chExt cx="1909800" cy="1909440"/>
            </a:xfrm>
          </p:grpSpPr>
          <p:sp>
            <p:nvSpPr>
              <p:cNvPr id="115" name=""/>
              <p:cNvSpPr/>
              <p:nvPr/>
            </p:nvSpPr>
            <p:spPr>
              <a:xfrm>
                <a:off x="1440" y="3801600"/>
                <a:ext cx="703440" cy="163944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03000" y="3695400"/>
                <a:ext cx="1308240" cy="190944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42760" y="4500000"/>
                <a:ext cx="100080" cy="11556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in histori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057040" y="41148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it kansainvälisinä sillanrakentajin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120" name="lionnet_logo-large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52840" cy="857520"/>
          </a:xfrm>
          <a:prstGeom prst="rect">
            <a:avLst/>
          </a:prstGeom>
          <a:ln w="0">
            <a:noFill/>
          </a:ln>
        </p:spPr>
      </p:pic>
      <p:pic>
        <p:nvPicPr>
          <p:cNvPr id="121" name="BRIDGE1" descr=""/>
          <p:cNvPicPr/>
          <p:nvPr/>
        </p:nvPicPr>
        <p:blipFill>
          <a:blip r:embed="rId2"/>
          <a:stretch/>
        </p:blipFill>
        <p:spPr>
          <a:xfrm>
            <a:off x="7238880" y="533520"/>
            <a:ext cx="1371600" cy="103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5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ammikuu: Suomesta Internetin 5. lions-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alveluma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huhtikuu: LionNet Finland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esäkuu: ensiesittely Kokkolan VK:ss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lokuu: kansainvälisen LionNet-verkon alku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815364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6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esäkuu: Haminan VK maailman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nsimmäisenä lions-kokouksena Internetiss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lokuu: Suomen LionNet-työryhmä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yyskuu: Suomen lionien sähköposti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arraskuu: LionNet International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7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aaliskuu: KVN vakinaistaa Suomen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-työryhmän osaksi tiedotustoimikunta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huhtikuu: Suomen piirit nimeävät 1. Internet-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oimikuntapuheenjohtaj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oukokuu: järjestelmällinen Internet-koulutus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loitetaa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7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oukokuu: Sun lahjoittaa LionNetille oman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alvelinkonee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esäkuu: Porin VK:ssa näyttävä LionNet-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siintymine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yyskuu: Europa Forum...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LionNet-työryhmä</dc:creator>
  <dc:description/>
  <dc:language>en-US</dc:language>
  <cp:lastModifiedBy>Ilkka Siissalo</cp:lastModifiedBy>
  <cp:lastPrinted>1997-05-19T17:52:20Z</cp:lastPrinted>
  <dcterms:modified xsi:type="dcterms:W3CDTF">1997-06-01T10:39:18Z</dcterms:modified>
  <cp:revision>19235</cp:revision>
  <dc:subject/>
  <dc:title>LionNet-esittely</dc:title>
</cp:coreProperties>
</file>