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261-755F-4F99-A5A4-CEE709A2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68F-A23A-4E1F-BFDF-C09F275A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EFB-6E03-4481-B46F-ADD9F843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7D1-AE73-412D-ACCE-1CC2B5FE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90D-2813-4EC9-A631-C6E6F8E6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D77-FF4A-4104-A422-35D7F04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9C6-EAEE-4B42-9CF5-00F15B3D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FBD-F519-486E-A45E-1EF922BB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DE9-DD1C-4BCA-8EA0-D0E49456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D48-B74D-47FB-872D-7750605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334-BC9E-44D0-9B75-536DB50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271-06A5-485B-9595-0B3B1A1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A46758-5E7C-452F-97B9-82C54ACEC2FC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5-19T18:55:41Z</dcterms:modified>
  <cp:revision>19235</cp:revision>
  <dc:subject/>
  <dc:title>LionNet-esittely</dc:title>
</cp:coreProperties>
</file>