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B780B6-3956-47AD-AECD-7C4D3A8B7B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ECD60A-A3B3-4A99-9986-34DF2BB8C3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DA58FD-08E4-4252-83CB-C93B728D7B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23630D-A246-41BC-8991-21A06F9E45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282E17A-A75A-4233-9D15-C0A071EF8D3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6456A3-D32C-4485-9E68-15295D6EAF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F4D7D3-CC7A-4F9E-80A2-C2E732C906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70F461-468B-4BF2-BEF7-F42C8162D5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39A308-3007-486B-B89F-E97E3B4854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39AF69-EBBE-424D-9D02-2A726AEE10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E4C5BB-AA59-4728-9366-A18F3AE758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DD90F3-B3D4-4BDA-80C3-CC8B9F9125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4DF2C7-9F10-4600-B169-8B5A556B4C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CFEDA8-3052-4CCB-979B-C6A97E1581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F51DAF-86B7-4C61-A18D-563FC20972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295A3DE-B21E-4A6A-BC9B-D8276383C29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B9E8C4D-57B0-4EAA-AA9E-2899B150974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0B5184-B694-4715-9D1B-7B8470FAA5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02E3FF-2664-42A3-9D40-A2F48E612D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586014-CD67-4A31-BBA5-2027EAEC89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E799B3-ACCE-4800-B85D-53D6CE9760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F07818-99DD-483D-B63C-2FC058093A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64F6AC-DDC8-42B7-A253-4C299FB583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E08412-6188-4F81-85A0-1BCB3C7026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8D7D31-2E33-485B-BCC0-1BE70360B6C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1E335C-665B-4377-B4CD-FB394FE179E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9E3C64B-E859-4632-B3B3-F292A0A26ED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50B29AB-182F-4A42-BD1E-CA2B738CE1F5}"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F627B1-FC11-4BF5-B508-07F547F2B0E9}"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D34119-5E03-41ED-AA61-1705A7C9B510}"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111D48-661F-41D6-93B2-44CA66CC6B9A}"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1FE489-78C4-4563-8D74-2696ECAFC5EB}"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ED796D-2D62-49D1-A584-F88CCD19F939}"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F87657-56D2-45B4-BB43-0569D11757CE}"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BF7FBE-4710-49C9-9290-B15A50A6D5A7}"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DB2B1E-E19E-4A41-B250-68CD0BCAB629}"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79CFEE-893E-4C81-A1A2-D4B112A6D4EC}"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A79DF7-0CC2-4424-80B4-AE685C5CB10E}"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6382C0-2031-4423-B78C-0ED01ADF74B0}"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4B701A-AE72-4BDA-BDBE-58D70A1F04C8}"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35F7D2-EF61-47B0-87D6-F6D8A75477D2}"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EB75FE-C637-4578-B20F-C28CBD9368D9}"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A1E123-1088-466F-9B4A-5E0B1339D0EC}"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1FCCB3-709E-4EAB-A63E-986BD13F3AD0}"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18ED50-BDDF-4452-8B36-37EFEF01564F}"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1D5DDB-1A3C-4F03-A757-3353E975AE0C}"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78C4DD-CDF5-45E8-957F-F29860A4C864}"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03EA2C-66C6-464C-B2CA-7391A6AE1B2B}"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DA6C42-03A6-4F1A-9C39-9EF2662DFF14}"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F91946-97FC-42DC-9284-E4CD3EF36C1B}"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10AD00-A5F6-46E4-9213-C93C5581E393}"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6B894F-5E2E-47BB-BAEE-6082A7612D58}"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3B6EEB-6E63-4A1C-8E48-B5B06F45402D}"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9B1E0DD-3BD8-40FA-AE2B-EBC1526AF7E8}"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4574FA-8C7A-47A4-AA2A-FF392434B27D}"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7CB49D-2729-48E0-97C4-F768EEF972EE}"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B72D61-4004-4566-A610-7282866EB0EE}"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4B55F6-DFC0-4932-BF16-22918B1F126E}"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401F2F-1E85-4607-9446-8D97BD63F5C0}"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FFB4D4-457A-42C7-9541-254B24B57128}"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1E5406-A189-40B0-B13B-664E1D36138A}"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5645B8-E782-46B7-9520-D22AE7EF4082}"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3CC88C-6ED4-480E-A569-E8DE0E3D3FBC}"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3D8577-2D1B-4C02-B244-DA4B02DAB4A8}"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CE43BF-2A96-45B6-89DC-C2D188DFEB20}"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E76BA8-EE3E-44AE-8D19-F8E82DF46FDF}"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F92D44-AB88-42D3-848E-5C8AB6CEC363}"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8F950A-9E41-4718-82C5-A213979679EF}"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3AD756-E1E8-40F6-BAEB-2D7BC87D8783}"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2021E6-35CD-41C3-A67D-2C433659F3FD}"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D4EF0B-F0F4-40B5-B753-701B04F89D7B}"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A95D13-FB07-4F2B-BF62-0C343B0328F4}"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2CA629-AA21-4E0E-99F7-10415B4DF60A}"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680961-CD44-4547-833D-5C275850A267}"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E459E2E-4FC2-4863-B5F9-15F783963479}"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E77E55-730E-49A8-9203-4072B6EBA40D}"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C4365B-F4B4-4C0F-B8BA-E024210963D9}"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99653E1-85B5-4168-9507-9F8B9DE8D0AB}"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BA617F-1833-4037-8DD5-FE8B1121DF14}"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E2D257-7809-4F8A-B6A0-4064494D2C5A}"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AD8D1C-0CD5-4DAD-BC83-5B6951D20766}"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F64883-6F46-4A8D-BD33-3707AE4452B2}"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E2A965-1D7D-4220-A2AB-87CCF505FFF3}"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31952A-2CCA-47CE-9BE4-8F476A8F8715}"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13D172-5BF9-4404-8021-5DE3B0041BB5}"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CFCF8BA-3C86-4E89-BC31-C950F493F39B}"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D08405-84B5-429E-8566-2402117C3218}"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9029E6-A5FF-475C-A200-72AB2ACF427F}"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BB791C-FFC6-4EAC-B719-CE7B4F40DE6C}"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D12CDC-B8E9-4BAE-9113-3FA96DD51F16}"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154FC4-620B-406F-8A93-3B4D5DC55AFD}"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78E3FF5-EFF7-4961-ABA2-327C597D02EB}"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AE0CD7-27A5-4688-B5CF-2F23734D100F}"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D3DA1B-B577-4525-ABDF-F8F5257198AF}"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6615AF-8986-484A-A76D-E942934F7DB2}"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8D7DFC-8ADB-47DC-863B-135F9302E59C}"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EEEAA99-14B0-4D7E-991A-99E166F9E9B9}"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B612F7-0212-47C7-A41F-09D97B4802F6}"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F8B617-0785-48B8-BF14-A982548546AF}"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970B59-E8E6-4B7A-80A2-710D860FAEE8}"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EBD862-42FC-4F9E-98E8-F6D3F75B054A}"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D91F9D-913C-457E-8A72-429451079DE9}"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DF342F-A1D2-4C06-A2FC-EAE6B6883892}"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5F9E075-113A-4DC6-A9F5-0248E38BA06F}"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BFE4DC-01B4-4CD6-90DE-B21BF8BD475F}"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4C5013-BCE4-4C5C-85D4-31A8C8511354}"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14122F-536D-435D-9653-F21B9F204F12}"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DA2B5EF-8DD4-4BED-B405-8F7EEAC8CC8A}"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1F5B97-055B-4835-AAD8-6C90780B0EFF}"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8B55261-5DEA-4171-96C1-92BB5C2F1367}"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58056D-2D4A-40E1-956D-3D8C187ABDB1}"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B3D43B-C9F4-4512-8144-8E668E638B88}"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0807B3-51EE-4295-92CD-BBAA7B3C5DDA}"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D852CF-92C7-4F3B-9811-19D0BA2236D9}"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B8E81E-E0C1-418D-901B-6C7F9349F50E}"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BF96B9-5F20-4C64-B30D-16591C16D3C0}"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09C9C5-1844-4022-915D-B277ADA88DA1}"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35C21B-B5EA-4527-8840-FDA00007DC1E}"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4FFFA2-A7FC-4AB2-89A3-3FAEF0247AB2}"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9391A3-0267-444E-91D6-50D2B6D73402}"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C6C874-A3A6-432C-AFC4-39910597F36F}"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3F23C3-98B2-45A3-B19F-EAB87D51B8E6}"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607518-8DAF-4863-850C-89D88B833A08}"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BB3F9C-A6C1-41DB-A08C-DF2E22C31B50}"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AE9069-6003-4F46-81D4-2AFCABF4BD29}"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9FEF0A5-08AF-4B2C-8CB7-7F85A0A5676A}"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41AB21-CC74-4E7A-AA18-F0E2E3DD859F}"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81CB6F-622D-4D11-ACEF-364868DCAB92}"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21506C-03B1-42EA-878F-4401D8114FF9}"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BF27FA-0774-4B20-BFC3-E1AD02B4CE59}"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4A9DC6-1CC0-47B8-AABA-C93FD830F4BB}"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752603-A68F-466F-8C44-FC15DFF27053}"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57B242-D1E6-431E-A66F-294CF8C63A3F}"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2DB309-CE77-4B5D-A86C-7CF5D8821260}"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5E7090-7B1E-4121-8406-3B779C2293EE}"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BA9F7F-60ED-43FD-A778-505CE3A141AB}"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85705D-0200-4EAD-8D7C-EDC4A10B2BF7}"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80C6CC-B8F0-4FA2-AA56-61344096AA1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7D8C82-3584-449E-AA91-96039E39F570}"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F26122-D838-4CB9-A392-9E046177302D}"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8225A3-6EAE-447D-9E2A-A38D297A6CCB}"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47588C-E599-4057-8001-754AC142D48D}"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BADC7D-EDBD-4A6D-8028-01C4A0832909}"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94B19A-9FFD-400F-B04E-18F7C5E01225}"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AA6411-BC14-4671-88C7-456CC2C9BA02}"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49A361-198A-4091-8976-293753FFDAB4}"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669B9E-7818-4017-8001-3BFD9A9E7AC4}"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A5A273-3F7C-4BB7-BE5D-76B89CA5FE3B}"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0B456E-1756-4C09-8CE3-A13B936586EC}"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0B9DA4-4454-4C33-9A39-FB876DF41F80}"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07B7DA-B20C-4191-B426-D06721EE121B}"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71DF3C-7ADE-4D3E-B4C5-A073D1100F17}"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00A892-B8E7-4C3B-924D-DEDF57990E25}"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4B23A37-682F-4D15-90E3-DBD2BEA749A7}"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5A1354-058A-4A43-84D8-7F5F92A702A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20C20C-D4CA-4FAF-8729-993E228B135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36B17C-CE3E-4243-8525-8DD5B9F3B8C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9FC863-09B1-4867-B525-C59B0C413AA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6911B5-D190-42C5-BB68-4CFE74943F0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FB91AD-A123-4574-BFDA-B6878CF4319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BC073A1-7D8D-433C-B0DA-82B2C89A40E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02CA92-382A-4328-91D2-3B418FF60B9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DB766D-3C6C-4ED5-8E80-BB6541914C3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694A60-5A4A-4094-9B86-3D031065C94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BFDCBB-CDB6-4FB5-A305-A0EC56A2D31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AB8666-2406-4EDF-B653-5279A1AED8A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A6D92B-CD0C-4C0D-8503-499D406CE8B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16FE97-B5FB-4CA4-B6B1-4FE6ABC0699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99D620-F408-47B8-9071-11AAAF0983B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2A3277-ED3A-46B6-976F-7B797D291EA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6D707E-1BDC-4CB0-97F4-B31154A67F1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9DDE5B-4A1C-4483-A08E-76C7693D202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71F9F3-7CF6-4067-B764-47AB30E88B8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3A75B3-08CC-4C71-8818-1B6222A14CB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6D3A65-6397-4E1E-AE0E-A26B1661C9D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A196CC-E0B6-4092-ABC1-F38E252CCB0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98990E-870E-4F71-83C5-FEFADB037EC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6B4426-AC64-4554-8EE7-20717C16685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94F674-999E-487E-A160-01245067B66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B52C05-1F55-4D90-8526-E574F799481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0F2417-4266-4880-A21A-84EAF3A0218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931205-C2AC-4DCB-BB56-CC37F656FF5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E18C82-B14B-4254-A6D4-9765CB1A841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E545B4-4562-479B-B4CB-C7FB89897E4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532F00-D742-49B1-89C5-7301808AE1D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9807BA-1920-4AFE-80B3-9C2BB690B53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04BA11-4041-4963-98E4-D4F0E0FC822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8B9FBE-69EA-4B3B-97E7-243DD949CAD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0B05D5-646D-43B4-9BE5-6B6333E0D47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F32B20-376A-46E4-ABB4-52D84370E88D}"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794623-6022-4B7D-8B29-135B7FD5512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F75773-B68D-4760-8540-A6A10B12DFCD}"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E886C7-0088-4778-BB7B-3A2C609A8C6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F13A83-88E1-4B58-87C0-97E4CE5BC57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D4BE8C-11A9-4C85-BA4F-4E1633D53388}"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0069AC-AEF5-4311-BABB-8B37C1B05C5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245D10-8B34-4676-A7A5-C1A1B55FC501}"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0BA041-0488-4F90-B427-F0E76B842B41}"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6EEFD4-B80F-49D8-B420-45C16DC5D2A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E1F137-0043-468C-ABEA-FE5B9E8379A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CAC641-80E8-4DF1-BF71-021FD487F5A8}"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84587E5-35F2-4640-901D-130E9840B27E}"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8F9727-C68A-4FC3-B408-6C8A83D7CDB5}"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FB84B4-E8BA-44D9-9F4A-C06626E35DCD}"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1B29F5-E4AD-4B68-9064-FAC8255A0249}"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477654-8DEB-46F4-8053-B9613C9301B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4D64F2-58DA-40BB-A87D-E56108FB6843}"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8F59BD-440D-40B5-8E93-36E9424132F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64DB9E-5680-4C23-A2CB-6DE729E1DFDC}"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505893-DC6D-43F6-8F6B-A59731D1916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8AC9B63-3A6F-4F4E-A4E3-B575332D8CF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AC0F47-3431-4F8D-BD69-0FC878B427C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170723-3910-4C34-94B0-130A92FF2CBE}"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27A484-57CA-4E01-9AF6-C1BCD63B4DE1}"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AEB019-4D21-4257-ABFC-6B394C68D4C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3D564C-22B2-4E88-A4BA-16CAF9720912}"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724206-C377-46D0-9C5E-8DF08A544AF5}"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D6F700-C89A-4E90-923F-D5FD14A8E858}"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3A4616-8E72-45B5-86BD-D1EFC32A253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32BD09-EAD9-400F-BD4F-BF9E4E4A1426}"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6775A6-C81D-4AFB-A19D-B29AB69E2B6E}"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E1B6D6-7A14-4FB4-A72A-A858A4C6FF78}"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7FC805-A83E-4322-972E-A6DAC0403275}"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E00875-E56F-4C31-B827-90AD3B8E1827}"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D037A9-86D6-4D91-8558-3E9E9B86B68D}"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0642B5A-7C8A-4DC5-B1E7-3BB072262F40}"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5C9EFD-2177-4213-9F95-247B9B52A473}"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AC9B20-DAB5-4970-B2E3-5DE0EB7D14F9}"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058206-CA4F-43BA-8B43-570AF38CF5FE}"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ED9128-27EA-4862-8C45-D7716E3D3C6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E5AC69-68FC-44F9-9881-DDA004F67A0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D35D58-2C3C-44B5-9D79-FD435FCBD99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F1D2A0-89C1-4EC8-99CC-6B85E1DD3A19}"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EFA30A-F42F-4DC7-9B40-EFA8B202F12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A9D989-4CA3-4006-ADD6-87D1E620F5DD}"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D3B0E7-9894-4BFD-8C1A-13C9ED314F98}"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6A8B86-F635-4DED-A672-24B52925C63C}"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054766-B79B-44D1-845D-29D3C84C0502}"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EC14B9-2BE8-42E1-BEE0-9C766EBD554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