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39584"/>
        <c:axId val="22606047"/>
      </c:barChart>
      <c:catAx>
        <c:axId val="53939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6047"/>
        <c:crosses val="autoZero"/>
        <c:auto val="1"/>
        <c:lblAlgn val="ctr"/>
        <c:lblOffset val="100"/>
        <c:noMultiLvlLbl val="0"/>
      </c:catAx>
      <c:valAx>
        <c:axId val="22606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39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DDB-FFDD-4A3B-9080-BF49F66F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74C-A2DF-4526-8B83-6B438BB6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934-79F4-4DE9-86B5-8ABC894D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224-1B62-4445-9B8B-D49BD182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476-4F37-42CD-A130-C2AD539D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3F9-9FDC-4E0E-A26B-A31221A5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5F1-3CDA-410C-902D-75CE183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F37-D6E6-4B38-B48D-50B10391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4B5-360A-4949-A9D6-A1A262DD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270-444A-422F-B959-A5CD63D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743-FC99-4AE7-BDBB-300DF8B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4F5-37F3-44DF-BF81-1111501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491D-2CCE-4734-A940-AD705A5F83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