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29.wmf" ContentType="image/x-wmf"/>
  <Override PartName="/ppt/media/image5.wmf" ContentType="image/x-wmf"/>
  <Override PartName="/ppt/media/image35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I: Tk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07FA60F5-B7AD-4A49-B046-88B5097EEECB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295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uilding User Interfaces With</a:t>
            </a:r>
            <a:br>
              <a:rPr sz="3600"/>
            </a:b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but not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slave placed individually relative to its mas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800" y="2895480"/>
            <a:ext cx="3543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0 -y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85800" y="472428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1.0c -rely 0.5 -anchor 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035760" y="225576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6035760" y="416088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62120" y="1981080"/>
            <a:ext cx="4800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x 0.5 -rely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 2c -anchor c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762120" y="4114800"/>
            <a:ext cx="4495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height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width 0.5 -relx 0 -rely 0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5807160" y="149400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5807160" y="362736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powerful than the plac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s groups of slaves together (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ing lis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s slaves around edges of master's cav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ach slave, in ord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533520" y="376380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Pick side of cav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33520" y="5013360"/>
            <a:ext cx="2286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ce off parce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la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724280" y="5013360"/>
            <a:ext cx="2438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tion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724280" y="3657600"/>
            <a:ext cx="28954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ally grow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fill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343400" y="2819520"/>
            <a:ext cx="228600" cy="3808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2971800" y="3429000"/>
            <a:ext cx="1371600" cy="1067040"/>
            <a:chOff x="2971800" y="3429000"/>
            <a:chExt cx="1371600" cy="1067040"/>
          </a:xfrm>
        </p:grpSpPr>
        <p:sp>
          <p:nvSpPr>
            <p:cNvPr id="202" name=""/>
            <p:cNvSpPr/>
            <p:nvPr/>
          </p:nvSpPr>
          <p:spPr>
            <a:xfrm>
              <a:off x="2971800" y="34290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124080" y="3733920"/>
              <a:ext cx="91440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733920" y="3962520"/>
              <a:ext cx="305280" cy="305280"/>
            </a:xfrm>
            <a:custGeom>
              <a:avLst/>
              <a:gdLst/>
              <a:ahLst/>
              <a:rect l="0" t="0" r="r" b="b"/>
              <a:pathLst>
                <a:path w="848" h="848">
                  <a:moveTo>
                    <a:pt x="0" y="282"/>
                  </a:moveTo>
                  <a:lnTo>
                    <a:pt x="0" y="564"/>
                  </a:lnTo>
                  <a:lnTo>
                    <a:pt x="593" y="564"/>
                  </a:lnTo>
                  <a:lnTo>
                    <a:pt x="593" y="848"/>
                  </a:lnTo>
                  <a:lnTo>
                    <a:pt x="848" y="424"/>
                  </a:lnTo>
                  <a:lnTo>
                    <a:pt x="593" y="0"/>
                  </a:lnTo>
                  <a:lnTo>
                    <a:pt x="593" y="282"/>
                  </a:lnTo>
                  <a:lnTo>
                    <a:pt x="0" y="282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2971800" y="4800600"/>
            <a:ext cx="1371600" cy="1067040"/>
            <a:chOff x="2971800" y="4800600"/>
            <a:chExt cx="1371600" cy="1067040"/>
          </a:xfrm>
        </p:grpSpPr>
        <p:grpSp>
          <p:nvGrpSpPr>
            <p:cNvPr id="206" name=""/>
            <p:cNvGrpSpPr/>
            <p:nvPr/>
          </p:nvGrpSpPr>
          <p:grpSpPr>
            <a:xfrm>
              <a:off x="2971800" y="4800600"/>
              <a:ext cx="1371600" cy="1067040"/>
              <a:chOff x="2971800" y="4800600"/>
              <a:chExt cx="1371600" cy="1067040"/>
            </a:xfrm>
          </p:grpSpPr>
          <p:sp>
            <p:nvSpPr>
              <p:cNvPr id="207" name=""/>
              <p:cNvSpPr/>
              <p:nvPr/>
            </p:nvSpPr>
            <p:spPr>
              <a:xfrm>
                <a:off x="2971800" y="4800600"/>
                <a:ext cx="1371600" cy="1066680"/>
              </a:xfrm>
              <a:prstGeom prst="rect">
                <a:avLst/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124080" y="5105520"/>
                <a:ext cx="914400" cy="762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9" name=""/>
            <p:cNvSpPr/>
            <p:nvPr/>
          </p:nvSpPr>
          <p:spPr>
            <a:xfrm>
              <a:off x="3657600" y="5105520"/>
              <a:ext cx="380880" cy="762120"/>
            </a:xfrm>
            <a:prstGeom prst="rect">
              <a:avLst/>
            </a:prstGeom>
            <a:solidFill>
              <a:srgbClr val="a2c1f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124080" y="5105520"/>
              <a:ext cx="914400" cy="762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7772400" y="3581280"/>
            <a:ext cx="228600" cy="76212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7315200" y="4800600"/>
            <a:ext cx="1371600" cy="1067040"/>
            <a:chOff x="7315200" y="4800600"/>
            <a:chExt cx="1371600" cy="1067040"/>
          </a:xfrm>
        </p:grpSpPr>
        <p:sp>
          <p:nvSpPr>
            <p:cNvPr id="213" name=""/>
            <p:cNvSpPr/>
            <p:nvPr/>
          </p:nvSpPr>
          <p:spPr>
            <a:xfrm>
              <a:off x="7315200" y="48006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467480" y="5105520"/>
              <a:ext cx="53352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153280" y="5105520"/>
              <a:ext cx="228600" cy="762120"/>
            </a:xfrm>
            <a:prstGeom prst="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6240600" y="1898640"/>
            <a:ext cx="1812960" cy="5842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246720" y="3346560"/>
            <a:ext cx="2403360" cy="5842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6227640" y="44798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Choosing Si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600200"/>
            <a:ext cx="624852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ok -text OK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cancel -text Cancel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p -text Hel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3457440"/>
            <a:ext cx="6324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cancel configure -text "Cancel Command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490860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116760" y="178128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6116760" y="322884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5916600" y="4643280"/>
            <a:ext cx="2612880" cy="73656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Pad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28600" y="1773360"/>
            <a:ext cx="50292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228600" y="3220920"/>
            <a:ext cx="5105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228600" y="4689360"/>
            <a:ext cx="53341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 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6456240" y="2193840"/>
            <a:ext cx="1374840" cy="121284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6456240" y="37940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533520" y="1447920"/>
            <a:ext cx="76960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tch widgets to fill parce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2590920"/>
            <a:ext cx="4724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33520" y="4191120"/>
            <a:ext cx="5943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6046920" y="1165320"/>
            <a:ext cx="1746360" cy="235584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6046920" y="360360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09480" y="190512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609480" y="426708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y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5532480" y="491508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5532480" y="201924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5532480" y="346716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parcel size to absorb extra space in mas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2319480"/>
            <a:ext cx="55627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33520" y="4941720"/>
            <a:ext cx="579132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 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3629160"/>
            <a:ext cx="5791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5913360" y="186696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5913360" y="384804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09480" y="202896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09480" y="402120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1 -fill bo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Hierarchical Pac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533520" y="129528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additional frames to create more complex arrange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09480" y="1828800"/>
            <a:ext cx="777240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lef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eft -side lef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righ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right -side righ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size {8 10 12 18 24} {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adiobutton .pts$size -variable pts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value $size -text "$size points"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pts8 .pts10 .pts12 .pts18 .pts24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left -side top -anchor w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bold -text Bold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bold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italic -text Italic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italic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underline -text 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underlin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bold .italic .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right -side top -anchor 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6237360" y="3032280"/>
            <a:ext cx="211788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structures: windows, widgets, 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widgets: clas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ment: the placer and the pack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commands: send, focus, selection, window manager, grab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exampl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howVar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kDialo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ne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to make widgets work together with application, other widgets? 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actions are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command ex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use Tcl commands to communicate with each oth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s -command ".text yview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uses widget commands to communicate with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352680" y="293364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962520" y="2903400"/>
            <a:ext cx="1905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1066680" y="289548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 rel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468612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962520" y="4656240"/>
            <a:ext cx="3733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text yview scroll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1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1066680" y="464832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ck on arr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cl scripts with X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b &lt;Control-h&gt; {backspace .t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select one or more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 of 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window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bitrary string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1447920" y="25909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2971800" y="2590920"/>
            <a:ext cx="1066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5562720" y="2590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220968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35053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60199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pecifying Ev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ying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Double-Control-ButtonPress-1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7200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3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KeyPress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676520" y="28195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odif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495680" y="2819520"/>
            <a:ext cx="1066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5638680" y="2819520"/>
            <a:ext cx="1371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or Keysy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502920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632448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75248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1483" y="1483"/>
                </a:moveTo>
                <a:lnTo>
                  <a:pt x="1483" y="1059"/>
                </a:ln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59092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0" y="1483"/>
                </a:moveTo>
                <a:lnTo>
                  <a:pt x="0" y="1059"/>
                </a:lnTo>
                <a:lnTo>
                  <a:pt x="1483" y="1059"/>
                </a:lnTo>
                <a:lnTo>
                  <a:pt x="1483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 substitutions in binding scrip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rdinates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acter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y mor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c &lt;B1-Motion&gt; {move %x %y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&lt;KeyPress&gt; {insert %A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Help&gt; {help %W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 Or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f multiple bindings match an ev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a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KeyPress&gt;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binding triggers per tag: most specif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 order of tags: widget, class, toplevel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change tag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ind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tags .b {MyButton .b foo all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reak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skip later ta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te: these rules apply only to Tk 4.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 and canvas widgets support bindings intern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ags with text or graphic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tag add foo 1.0 2.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create rect 1c 1c 2c 2c -tags f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bindings with tag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bind foo &lt;1&gt; {...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bind foo &lt;Enter&gt; {...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 always execute at global lev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binding created in procedure, procedure's local variables aren't available at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ten want binding script to use some information from binding-time, some from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list commands to generate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procedures to separate event-time information from bind-time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{set y [expr $a + $b]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407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"set y [expr $a + $b]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ety a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 y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y [expr $a + $b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[list sety $a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1219320" y="37339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bind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629400" y="373392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event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1911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7913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2329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76320" y="3733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r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990720" y="365760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990720" y="396252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76320" y="502920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914400" y="4572000"/>
            <a:ext cx="153000" cy="1372320"/>
            <a:chOff x="914400" y="4572000"/>
            <a:chExt cx="153000" cy="1372320"/>
          </a:xfrm>
        </p:grpSpPr>
        <p:sp>
          <p:nvSpPr>
            <p:cNvPr id="300" name=""/>
            <p:cNvSpPr/>
            <p:nvPr/>
          </p:nvSpPr>
          <p:spPr>
            <a:xfrm>
              <a:off x="990720" y="45720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213" y="0"/>
                  </a:moveTo>
                  <a:lnTo>
                    <a:pt x="213" y="0"/>
                  </a:lnTo>
                  <a:cubicBezTo>
                    <a:pt x="176" y="0"/>
                    <a:pt x="139" y="15"/>
                    <a:pt x="106" y="43"/>
                  </a:cubicBezTo>
                  <a:cubicBezTo>
                    <a:pt x="74" y="71"/>
                    <a:pt x="47" y="111"/>
                    <a:pt x="29" y="160"/>
                  </a:cubicBezTo>
                  <a:cubicBezTo>
                    <a:pt x="10" y="208"/>
                    <a:pt x="0" y="263"/>
                    <a:pt x="0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990720" y="582948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14400" y="52578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990720" y="53722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990720" y="46864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914400" y="514332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319"/>
                  </a:moveTo>
                  <a:lnTo>
                    <a:pt x="0" y="319"/>
                  </a:lnTo>
                  <a:cubicBezTo>
                    <a:pt x="37" y="319"/>
                    <a:pt x="74" y="304"/>
                    <a:pt x="107" y="276"/>
                  </a:cubicBezTo>
                  <a:cubicBezTo>
                    <a:pt x="139" y="248"/>
                    <a:pt x="166" y="208"/>
                    <a:pt x="184" y="159"/>
                  </a:cubicBezTo>
                  <a:cubicBezTo>
                    <a:pt x="203" y="111"/>
                    <a:pt x="213" y="56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Tk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ele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 FILE_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suing commands to other Tk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tgdb "break tkEval.c:200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interp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wish tgdb pp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 inform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width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hildren .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ontaining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ccess To Other X Fac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board foc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cus .x.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 with window manag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title . "Editing main.c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geometry . 300x20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iconify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eting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destroy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b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release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1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plays values of one or more values, updates automatic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2705040" y="3298680"/>
            <a:ext cx="280368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ructure Of A Tk Appl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hierarch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proces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an have &gt; 1 application in a process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dget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window with a particular look and fe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es implemented by T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oll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ss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ck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o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p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"Variable values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menu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button $w.menu.file -text File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menu $w.menu.file.m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.fil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 $w.menu.file.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$w.menu.file.m add command -label Qui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command "destroy $w"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3863880" y="5173560"/>
            <a:ext cx="1101600" cy="7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533520" y="144792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bot.title -width 20 -anchor center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text "Variable values:" -fon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Helvetica-Medium-r-normal--*-180-*-*-*-*-*-*-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.title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3162240" y="4670280"/>
            <a:ext cx="280368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5335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i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frame $w.bot.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 -side top -anchor 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name -text "$i: 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value -textvariable 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nam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value -side le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6326280" y="4027320"/>
            <a:ext cx="2098800" cy="16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2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533520" y="144792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dialog box, waits until button pressed, returns inde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mkdialog .d "File Modified" $msg warning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"Save File" "Discard Changes" "Return To Editor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905120" y="19051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50532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5257800" y="1905120"/>
            <a:ext cx="9144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es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09588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itm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0006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71500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6290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59124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H="1" flipV="1">
            <a:off x="2362320" y="3200400"/>
            <a:ext cx="16761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962520" y="35053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Lab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 flipV="1">
            <a:off x="4495680" y="3200400"/>
            <a:ext cx="76320" cy="3049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5334120" y="3200400"/>
            <a:ext cx="14475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2639880" y="396540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$title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protocol $w WM_DELETE_WINDOW { }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top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top -side top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msg -wraplength 3i -text $tex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justify left -fon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Times-Medium-R-Normal--*-180-*-*-*-*-*-*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sg -in $w.top -side righ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expand 1 -fill both -padx 3m -pady 3m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3137040" y="4651200"/>
            <a:ext cx="298440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{$bitmap != ""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itmap -bitmap $bitma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itmap -in $w.top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padx 3m -pady 3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2913120" y="4194000"/>
            <a:ext cx="328932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i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but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button $w.button$i -text $bu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command "set button $i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utton$i -in $w.bot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expand 1 -padx 3m -pady 2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2792520" y="411804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rab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oldFocus [focus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kwait variable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destroy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oldFocus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interfaces with Tk is eas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th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nect to application,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 from single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pecifying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invoke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communicate with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ommunicating with outside wor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hanging anything dynamica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951520" y="1511280"/>
            <a:ext cx="1631880" cy="19652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951520" y="3803760"/>
            <a:ext cx="1631880" cy="270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8037360" y="2035080"/>
            <a:ext cx="203040" cy="16794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4078440" y="1989000"/>
            <a:ext cx="1413000" cy="17748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5396040" y="4203720"/>
            <a:ext cx="307800" cy="2412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6"/>
          <a:stretch/>
        </p:blipFill>
        <p:spPr>
          <a:xfrm>
            <a:off x="7881840" y="4203720"/>
            <a:ext cx="365040" cy="2412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Widget Hierarc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56386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4674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781680" y="1676520"/>
            <a:ext cx="0" cy="22096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4674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54100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371600" y="36576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808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590920" y="449568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2096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600200" y="44956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12193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337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057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057400" y="40384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914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1170000" y="1317600"/>
            <a:ext cx="1746360" cy="23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855800" y="116532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ypes Of Windo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0666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27672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8954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286000" y="434340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38080" y="43434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19051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8195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743200" y="388620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743200" y="38862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1533600" y="3886200"/>
            <a:ext cx="12096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858000" y="5105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791320" y="5410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800600" y="510552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ms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86728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43200" y="3886200"/>
            <a:ext cx="373392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486400" y="4724280"/>
            <a:ext cx="99072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477120" y="4724280"/>
            <a:ext cx="99036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472428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09480" y="3352680"/>
            <a:ext cx="1143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in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7391520" y="3505320"/>
            <a:ext cx="1295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p-level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191120" y="32767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ternal 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286000" y="350532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6629400" y="3886200"/>
            <a:ext cx="106668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371600" y="3657600"/>
            <a:ext cx="1143000" cy="763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191120" y="3886200"/>
            <a:ext cx="68580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4114800" y="3962520"/>
            <a:ext cx="91440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181480" y="3962520"/>
            <a:ext cx="7632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34120" y="3886200"/>
            <a:ext cx="1066680" cy="1523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5494320" y="1528920"/>
            <a:ext cx="1774800" cy="14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Widg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widget has a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button, listbox, scrollba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each class, used to create insta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text Quit -command ex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 -orient horizo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143000" y="4495680"/>
            <a:ext cx="13716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2133720" y="5029200"/>
            <a:ext cx="16765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267080" y="449568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nfiguration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18288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2971800" y="4114800"/>
            <a:ext cx="0" cy="9144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54864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752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146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66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28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895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2004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6668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971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4100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5438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52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4864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300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0512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74320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04812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56272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42900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figuration O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33520" y="121932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d by class.  For butt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6360" indent="-119160">
              <a:lnSpc>
                <a:spcPct val="100000"/>
              </a:lnSpc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disabled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justif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underline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n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x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id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nch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rapleng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ief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itmap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stat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orderwidth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col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akefocus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omma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thickness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urs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image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vari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specified in command, taken from option databa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ed from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SOURCE_MANAG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erty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Xdefaul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be set, queried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p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in option database, default provided by cl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dget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for each widget, named after widg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reconfigure, manipulate widg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configure -relief sunke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fla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set 0.2 0.7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 is deleted when widget is destroy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iple: all state should be readable, modifiable, any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Geometry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533520" y="1447920"/>
            <a:ext cx="3809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control their own positions and sizes: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manager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even appear on the screen until managed by a geometry manag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r = algorithm for arranging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lave window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ive to a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ster window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943600" y="3505320"/>
            <a:ext cx="1523880" cy="76212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495680" y="228600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quested size from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5410080" y="1523880"/>
            <a:ext cx="25909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ameters from application desig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7162920" y="2286000"/>
            <a:ext cx="1676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of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419720" y="4876920"/>
            <a:ext cx="19810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ize and location of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7086600" y="48769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quested size for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05720" y="2133720"/>
            <a:ext cx="0" cy="129528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56432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0"/>
                </a:moveTo>
                <a:lnTo>
                  <a:pt x="1214" y="1059"/>
                </a:lnTo>
                <a:lnTo>
                  <a:pt x="0" y="1694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42916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0"/>
                </a:moveTo>
                <a:lnTo>
                  <a:pt x="0" y="1059"/>
                </a:lnTo>
                <a:lnTo>
                  <a:pt x="1214" y="1694"/>
                </a:lnTo>
              </a:path>
            </a:pathLst>
          </a:custGeom>
          <a:ln w="12600">
            <a:solidFill>
              <a:srgbClr val="081d75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42916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1694"/>
                </a:moveTo>
                <a:lnTo>
                  <a:pt x="0" y="635"/>
                </a:lnTo>
                <a:lnTo>
                  <a:pt x="1214" y="0"/>
                </a:lnTo>
              </a:path>
            </a:pathLst>
          </a:custGeom>
          <a:ln w="12600">
            <a:solidFill>
              <a:srgbClr val="081d75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56144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1694"/>
                </a:moveTo>
                <a:lnTo>
                  <a:pt x="1214" y="635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Third of four talks in all-day Tcl/Tk tutorial.  Discusses Tk's Tcl commands.</dc:description>
  <dc:language>en-US</dc:language>
  <cp:lastModifiedBy>Sun Microsystems</cp:lastModifiedBy>
  <cp:revision>0</cp:revision>
  <dc:subject/>
  <dc:title>Building User Interfaces With Tcl And Tk</dc:title>
</cp:coreProperties>
</file>