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6BB26A-DBD2-4951-B29B-266732326B3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5A50E-FDDD-457F-8722-126600ACB9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DD77E1-40DA-48AF-A369-A225D28432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4806E2D-5488-4BB3-B02F-B05593B17F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AFA1AF0-650D-4146-8786-93C83E1184F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7B3D1CE-6244-4F39-BBFB-7BEA8FC33F1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C23650-0E05-42BA-A603-D9A8A30B23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72E9E0-5968-4BFA-9FCE-6968067162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DF6388-7EC8-4485-A824-63C94808880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266A67-B946-414C-9AE0-03671B458E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5C076F-4E3B-4E50-8717-8574CF201B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2FF1B7-9362-4722-A5A8-26CE7B0A4F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485BEF-D272-43EF-A015-1C05CA18CD3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2FB82E-181B-438D-837D-049704C54DF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094EFAB-D603-409A-8D34-7042FE2C083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7B79836-F446-41CE-9AD5-A7B5EFE1CBA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5CD2145-37D9-469A-95D5-3DD9446405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3B9351-0A3E-4AAD-A5D8-D9A5329033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34ECA-CA36-4CC2-90FB-A56C092ECE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1E7C3CC-9C5F-441D-9458-6317C5F22E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290E05-3532-48D7-8682-BB12EDBCF2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429D13-8CA6-4308-BF0A-AFAFE19AF0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A2B35-4DBF-40BF-8577-27C002B37E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881C5D-5183-4C02-A5BF-9A30856785B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FFD90B-FF49-458F-BF94-CA467190491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9C8CC7-EBA5-4BB5-8C82-833969DAED5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1F80FA-79BE-4E52-8A23-EFF1057F73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5EF20CE-12D8-4128-9F48-4EC3D3C9A93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6D3E9-8868-468B-A29C-33D5D24DDBF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CAA872-80B1-4D9C-8807-9405C8F0E70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31081-66F0-42F7-9B67-A5BB0665C65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7E3B47-FD4F-4149-83F0-78454CD3C6F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6FB2C-1E6D-49F1-92E5-F2DB8CAE0634}"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858B5-3645-42AE-939C-22C742D4D948}"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21254-70CE-4B35-BEED-880F2F779D38}"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F94564-7B4E-4E6A-9B55-4CBFEA4002B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C62B0-7BC5-4530-933D-173A9B647A74}"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416D2-F2C1-4859-9FA2-7EE50F093755}"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5AD21-555E-44E4-B3EE-F77D84A42A3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DA8053-6DC2-4B8E-B6D6-FBD2544C775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7CFEF-F379-4C3C-B087-426D7D5EB5D3}"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AAE9F-8186-42D1-B4FB-EE04CA867A6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2C6D9-43B6-442E-8D07-12CE167E868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B8533-992A-4583-9437-404BEC95231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052510-03AE-4E8B-9F06-6EC070ED939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2851B8-482A-43BB-804F-811626F43CE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593A9-A2AD-4957-9AFA-66B2F8FADF5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5CCAE-95D5-4724-BC8A-4A8887CE3FE1}"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16F294-92A5-4CF0-B6DF-5E59CEF678A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359526-B09E-4E85-A40D-0FB76A27FD8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95C7D5-FC97-43C1-AE6C-89E054FE8566}"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DCAEC7-9F52-475D-95FE-7E67A69EEBC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49A442-6C6F-49FF-9791-75D08F45320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15056F-A596-41BC-8AEC-2D31FF397F15}"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9B845F-F777-40B9-95A7-FEB678EBA86F}"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B5E29-29F2-4D5B-A2DF-397AC6721ED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88CCB8-1AE0-4B79-98E7-8C08611FA10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E2155-0596-471A-9051-5DE536572A7B}"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0EC0AB-B0E3-49EB-AC02-21FB53C14B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DA0E1-575F-4D65-A70E-46A2BCD9F30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256C0-EE41-47A7-B666-AA3BF2B0AD79}"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1DD90-A663-435D-9BE6-BD5B8BA08333}"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D5CAC-122D-4C4D-94AC-7DC4015E4211}"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4477D3-D956-45ED-B5E3-C059C4A49BC1}"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8A17A-C5A8-43CA-B21F-75B222F2F1A5}"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AE4A82-516D-472D-AEDE-0BE2477208D1}"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1DAF78-7D9B-483D-8E4F-4F832AA47A4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04FDE6-4F4B-4517-A776-3E2543AC3918}"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846471-0487-4AB3-8662-BF112324977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8BA53-FF38-47DA-A43A-606A726144E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3AC28-2136-42C5-8575-480A1544D89C}"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585F87-3394-4BD7-8B6A-8A45F7CCF26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C19A14-3A3D-471D-888A-70FF499A40F0}"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1620DC-83A2-4FD2-8D59-28523AB3C6FD}"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3498FFF-93A1-4ED6-8FDE-8FB541D53D17}"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F41C6-FC0B-4370-A70B-73BC6602D9B9}"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A52507-25D6-4D86-9D8A-5F4C155701B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D07D23A-E38C-4814-8875-4A4148E59217}"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4FB8DE-D69A-4B32-9170-5527E4699C70}"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2A176-BDDB-4F5A-9DBA-89D817C89B9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81434F-4512-4129-9679-BA2AB125D307}"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9CE20E-EB4E-4E92-B977-C4E4A49A3F93}"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F01D35-22D1-4ABA-A532-DC06808A3C5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904FD1-830D-45A7-92A0-E6E1772D715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E71137-391D-469C-BC14-F4C1C62A986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07E0D0-2040-4884-B9E1-984B2357F4A9}"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0D97B-C83D-4D0D-BF0C-30E7C5FE3B2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888B5-AAE1-47FB-96F0-716CA1E4B2F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2C67B-5AA6-4842-A987-D6088EC28DC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72F14-32B0-4ACD-A01A-A70B4A14187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4965ED-3157-4DDC-8BE3-853A0F78FC6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67540CA-35C8-49C8-BC43-9623D1BFB166}"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EDF9F5-FCD0-4631-92DB-D70E8BA3692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63A8D-6998-4482-AD80-1716E4029EEB}"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43503-05C9-47CE-82A9-0A8651640E9E}"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C63A78-4392-4C63-A0A7-5EF3C67437C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03B1B05-442B-4C92-964B-9809823A600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59559-0CE4-43E6-85AD-67229D5F02AF}"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4723DE-AA71-4FA1-8A0D-7BE6EBA0446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8CDD21-5400-405D-A3DC-E62FFB28DD3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655FD1-7E2B-436E-84E3-E2A5799A3F43}"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B53CC-7EC9-4E17-B5D7-B0F807E2194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C9FA21-7380-462E-8735-A02A9BA5FC02}"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74405F-7B00-429A-BDD5-FE10A7408CCF}"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4B1474-756E-493F-A7B9-5A04A227055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5FB37-DDAA-494F-A396-4AA78F25746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4A67A-00EE-4F8E-8974-52015FBA82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E370300-E730-4053-B54A-5CEA7E5DAD97}"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1BEF94-784F-4B51-89C4-548BBBFEDF30}"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10BC127-93F3-455B-BAA1-80FCCA20837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DFE235-488B-4637-8BB0-81CCD969B692}"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85F2B4-DB91-4DDF-8A51-874B5A44778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F3AAA-D7E4-465D-A197-B0701C4C385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06350B-5BD3-45E8-8845-6773ADE8646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4794E-E093-40DA-AB4C-D46F90B3D88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8D1419-64C2-4D36-93E5-4328D8C87F4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23BF8B-4E39-46BF-846E-DCE5EFCA14C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084C8-5060-48E1-9AFB-427DE7EDE66C}"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AE596A-07A0-4317-8351-4CF72D5A755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977DD5-8DC1-4F4A-92FE-539695EA11A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F29D05-2E7C-4C03-8C7E-F817B35E7D9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6CD48-C766-4052-B960-E037CFD33F3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A5610E-3FB5-4417-AFB3-D9DC94360A1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F9D697-F8DA-4C53-B658-925C99B0C33A}"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ABED2-F2A0-41E5-B91C-E3361071E586}"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451293-25C6-4307-921F-870A68ED18A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130E0-38F9-47BD-A173-863BD982163B}"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A6BD0-A298-49A2-A5CE-0A0CECD921C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45ABE-CADB-4E6A-9C26-7F54A300F402}"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1441B-49B6-40A1-B307-E02DFC68F1F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2A0B42-4EF7-4520-9006-92C7F16F2579}"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FC988E-1BAD-4480-AA93-54A56BC324E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01BE0-A5B7-41EE-87A7-0C1E148D35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88CF63-FA43-49C8-935C-6B2E1BAD1824}"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75B7CE-E54F-4D7E-B42E-7D3202BF4C97}"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07FC1E-6262-4173-B6C0-A633AEEF4E2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21821-A273-460F-A013-32727ABB2FF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35743-5E11-4AB9-84C2-1C691796842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16BD92-ABFA-4938-8D3C-E03FD57622D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F31BC5-AEBA-4111-A96D-A9A445C1E4B9}"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780EE-4C44-4E2A-A8BF-88A89154B16B}"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9174DC-0954-446F-9CA7-B5FFD0D619D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2ABCAD-9891-42C3-AC8D-EED02B17DF75}"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FB21EF-8F79-4567-9CE9-727BDEFC331F}"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A13265-BA70-442A-A952-EF58257559B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35F5D-8633-4C52-9F2C-E7CF22CD67DF}"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24ED0-7386-4FCC-AC68-4598C6843A27}"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21918-E807-4C4C-912C-3DC6EA6BE5A4}"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AD4C8-BA73-4DEF-A8C2-E8CDE9620D82}"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3D7BE-5904-4135-A7ED-9AC2FDA3FBF2}"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A4B8F4-31A0-4CB8-BA52-EC317484213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645778-3778-49E6-8832-3A409D634AA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6C801-349D-4585-94EC-B2B6E9C85A7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6102FB4-F6B3-4314-B8A1-3EEA2DFD68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DB316-B69D-461B-8B46-50E9CC910D2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E67EF-766F-4CBC-B5C6-10E10376002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6D0004-0EA8-42AB-BE2F-35D03490E82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F24A2C-2BF0-400B-BD58-81754A3A267A}"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3FCF98-B8E5-432A-B4CE-9E2F7BEA9F2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B1EC32-D3C9-4866-A814-4D2665C56E1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C84FE0-60F3-447A-B89F-D669497683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060AA-8091-467D-AEEE-D203622C2B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D21151-6EFA-4B72-9B67-CEB924D811C4}"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6D70F-84BC-4A8C-82C9-DC9026705D9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8BF92-4EC7-4785-9F11-2D3D37120E66}"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18143-EE1A-4307-80D2-D57E5046D1D2}"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B5351A-60B2-44DE-B3D6-F13FA419CE2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9EA022-A57B-425B-A6FC-5F4E2CCE4147}"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1010BC-21AC-4E51-9267-EE716580B649}"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7C02F4-CDA2-4A91-81CD-958F22D76794}"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433AF-A15F-488B-A33D-1F70018DCD1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A991F-A1DC-4E5F-89F4-C6BEEB31179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9610A3-B40C-45DA-BB28-367787D0B787}"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C39AA-BF8C-457C-83C5-CF3FE6185E28}"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76E87-FA60-4F7E-87F9-0F670E0A683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74DFD-EB82-4A04-BBD3-2BE68E133F1B}"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B2063-A619-40E2-9858-A93EB6B34576}"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71724-740B-4552-BA2E-5425DED25C9F}"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EA87E-6131-4AC5-8219-552F4F6413F7}"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7309D7-86D2-4B9F-BBBA-2C483C43687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DFF298-A357-4162-940D-9F346538E8D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83D90-4962-499F-8483-27BB5EECF8A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140B4-FE5B-42A2-B241-CCE1B266BFC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14640C-4B70-4E92-858B-71936ADD2C5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55FBF-A12C-4AA5-BFF4-AE51DB41925D}"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78D0E9-B13C-4E0F-83BA-E56C7772514F}"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78648-F2DE-4F94-816F-DB62A62CE3FB}"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65EA71-5313-4C50-ACBF-AC1BAD1AE39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C3A85A-77D2-4688-8131-45C27D281F6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E3527B-310E-4986-9CF8-C80FBE48444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A540B8-868E-49A8-95D2-0A4213EC1A7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E4A8B-0059-42A8-8E03-8515D58D7CE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D68220-D71E-468F-85E7-E5FE5CD7D542}"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E8518-66EB-42C5-B67D-DBBED296D4D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53047-365A-47FD-A708-7452A54DFC3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00BEE3-FA5D-4480-A871-D2887DD6D2B7}"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239669-C941-4BFE-A4F7-FBB9C13BBDA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24A4D2-30BD-49E0-B5BD-D826F91D4D9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54AB09-ECF4-4204-92C3-1063AE02DBD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08BC44-CA8B-4F9B-951B-103AD952F92C}"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7FE40-FDF6-4C94-BF81-E82B6A8C6B1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128AC8-D997-464B-900A-359B505FADC9}"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17F01-5639-440A-890E-9EE8D46951F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F6653C-7789-47BB-AB21-9D88DF122955}"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F59C4-068A-46C9-90EC-C8713713C27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D5554-526A-46FE-A502-681B2313F23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E24E5-0B9D-4119-A116-6CF9D83195EF}"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3CCB9-4F56-4219-ABF9-0BA124DB50E9}"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BCA9F-C782-42F6-942D-1AD2B85122A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A7649D-D9E2-4EA0-90C8-2818DB3C41E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E386C93-94D1-4E03-A0C5-BF391D01BAA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1DFC7E-42DA-4BDF-8B2D-13EF64D7683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B65A76-430A-4381-B25F-4EF6798BB21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1E494D-6E23-4FE4-9F2C-7B58108863E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30DD9-3858-4299-B516-D695B8AAB4D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34070-A6A0-4335-BC91-D9C8CC89247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E7EE59-6DC4-4DA9-95D5-E2BA449530C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4BF8C5-4466-48EF-856E-4FCDD88783F1}"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0CC9F-F9E9-4463-AF9F-E616B83E5D9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35190-A6A8-47A6-9F29-D12C3884DAAF}"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7FB81A-D271-493D-9657-24EFA48FAB7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2EDA92-CEB3-4D90-A3CD-69E3A296D23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C4350-F36F-46AD-9DE9-E758D4478506}"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E8DBE-771E-4C16-8E21-3D61866190B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B0BAF1-EC66-4074-B1D2-E77E42BCD909}"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297EB0-6019-4A50-8F58-E17DD54C00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1D7E24-867F-4EE8-9C23-B9F944ADDDB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285CBD-D3EF-4B2C-BFD5-48213FB1AC4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84C001-D768-4106-88FF-210937DA7763}"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4AB11-199E-4E5D-95B5-9E48AFA65374}"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8C08A-43FA-44FE-BFF1-91E615B0B00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BDB1AA-CC47-4935-87B4-C9141ED2C6EE}"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6306F5-E986-4A8E-8194-5F1B20287FB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6F29BE-E3E8-4D61-B4F5-45B8C792EA00}"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8DAF1-BB64-4135-A6B6-F5BB42973D65}"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9A3DA-C64E-4F58-837B-EB759CF976F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C732B-CA4A-4004-A821-79005285FC4B}"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B03C08-1492-4627-94C9-4DF180FBF7A8}"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6ACD73-DAAB-403C-BA83-6FFF85FC2F9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