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2BD2-3695-46CB-8034-7FD986DC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6F74-4CB0-46C2-A687-2DCAE0B0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FF53-ACDC-4B10-B9F3-F4B3CCE0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0B87-3427-489E-99AB-A7EB4BE7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7678-CEC6-4693-9EFB-9189F620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EF32-ABA5-40E6-93DE-206354FC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8E3D-BF23-4959-8899-4593618B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8EA4-B113-4F43-9161-9F43AC00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033A-CEEE-43BF-BAF7-777E4414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C76A-F170-4523-A8AD-BB9BF98A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D4BD-C0CB-4F57-BAB8-80127ECF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B3D5-9B7D-43B7-88B0-A1730264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B460-2AF7-4F76-8702-46A1A28F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EFD4-A26E-4C65-AFF9-68CD2AD8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BD49-2595-4C4A-A6E5-AE05750B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07A4-B928-422C-8F33-6FD84317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994A-737E-4194-8485-D2017B16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BB1EB-7001-4008-8A6B-A467C2E7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3F6C0-8774-4A21-B8CA-A8B6C0CD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794EC-7FDE-4815-9DA8-513E2FA1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46C9F-3E3B-4637-9FA8-9327F035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AC264-15C8-40EF-B038-DF6B98D8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0F13-82F0-4A6D-8F58-04317882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0C6E2-D075-4944-9539-2A6DF70B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993F2-A820-44B7-9F37-DB4BC045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A6D85-8777-42D5-B85B-A83F46D4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82F87-E7D2-4E95-A56F-4FC5D287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83B10-A26A-44A7-BFC2-0483162B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5639D-626D-4D95-BB12-D1B68527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34536-1F52-4C23-8676-9A5A85B4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E7CB-DEA2-4956-B340-93DCF6FD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2FEB-566A-4D39-AFF8-EBBAAFA9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7A3F-943E-4E98-901C-A3A55DEC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1029-99B4-46F7-B7E3-83AB37C2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A09E-243A-424B-BC5D-55B15EC3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9671-E435-4E56-B18C-57367843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7975-A969-4B8D-8DD3-F5C6B563C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3ABF-8E75-470D-B80C-36DD7B83C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1C50-B656-4339-AFD5-BE967F49D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4:13:26Z</dcterms:created>
  <dc:creator>Gary Blue</dc:creator>
  <dc:description/>
  <dc:language>en-US</dc:language>
  <cp:lastModifiedBy>Gary Blue</cp:lastModifiedBy>
  <dcterms:modified xsi:type="dcterms:W3CDTF">2005-11-04T04:15:14Z</dcterms:modified>
  <cp:revision>1</cp:revision>
  <dc:subject/>
  <dc:title>Slide 1</dc:title>
</cp:coreProperties>
</file>