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CAE-CD7C-4CA2-8860-A3A802ED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70A-74A4-436A-B2A0-ED085231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A57-5534-4C13-881F-B81BD0FF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54E-17B3-42CC-BF16-07E63E87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A41-E63C-41F3-B999-EE295F70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00E5-FECA-441C-A684-3BBFAA93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CA96-DFEE-47DC-BA3C-D463DE20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DB4-CC74-4E58-B68B-8119567A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AD0-C669-4401-BD81-84818265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A19E-A9F7-4EBC-A417-345DD448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29F-44FE-4D8C-AEDA-8383EA73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664-5269-4842-A449-93E5487B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639198-C3D4-44AC-9A2E-05884E0609A8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4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6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20" name="lionnet_logo-large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5284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 -  On the Net We Serv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iedottamisen rinnakkainen medi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85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131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43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53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- organisaatio ja rakenn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on lionien kansainvälinen palveluverkko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58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LionNetin hierark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invälinen taso - LionNet Internationa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nen taso -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LionNet Finland - district 107-B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LC Espoo / Meri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   www.funet.fi/~siissalo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erustieto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ukana on nyt n. 50 kansallista ja osavaltiotason LionNet-palvelusolmua (nodes)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kejä noin 480:ään eri lionien Internet-palveluu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Internationalin osoite on www.lionnet.com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</a:rPr>
              <a:t>Toukokuu 1997</a:t>
            </a: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nen taso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sella tasolla vain yksi noodi,      esim.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sen tason toimij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odemaster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- työryhm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n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en Webmaster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iir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perusinformaatio ja hallinto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top ten -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lubeihi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lehti ja PK -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lub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erusinformaatio ja virkaili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arhaat 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otisivuill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lehti ja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uosikertomus tms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henkilö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lla lioneilla on jo omia henkilökohtaisia kotisivuj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äihin pääsee klubin kotisivujen kautta,   jos klubit ja jäsenet itse haluav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Internet - Intranet ?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ernet - julkinen, kaikille avoin 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ranet - Internetin  sisäiseen käyttöön suljettu osa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</a:rPr>
              <a:t>Mieti mikä tieto menee kenelle !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75" name="LN-INTRANETKAAVIO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in käyttäjiä on paljon - miljoona viikoittaista käyttäjää Pohjoismai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 tuntee Internetin myös liiketoimintansa kautt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rinomainen vuorovaikutteinen tiedonvälityskanav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liike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harrastus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kansainvälisen järjestön yhteydenpido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vaihtoehtoinen med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tasaisin tieto löytyy Internetist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erinteisen median merkitys ei vähen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 tarjoaa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aihtoehdo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uorovaikutte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reaaliaika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93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15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in histor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057040" y="4114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it kansainvälisinä sillanrakentajin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20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  <p:pic>
        <p:nvPicPr>
          <p:cNvPr id="121" name="BRIDGE1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71600" cy="103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5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ammikuu: Suomesta Internetin 5. lions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um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LionNet Finland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ensiesittely Kokkolan VK: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kansainvälisen LionNet-verkon alku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6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Haminan VK maail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nsimmäisenä lions-kokouksena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Suomen LionNet-työryhmä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Suomen lionien sähköposti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rraskuu: LionNet International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aliskuu: KVN vakinaistaa Suome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-työryhmän osaksi tiedotustoimikunt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Suomen piirit nimeävät 1. Inter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järjestelmällinen Internet-koulutus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loitetaa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Sun lahjoittaa LionNetille o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inkone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Porin VK:ssa näyttävä Lion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siintymin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Europa Forum..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LionNet-työryhmä</dc:creator>
  <dc:description/>
  <dc:language>en-US</dc:language>
  <cp:lastModifiedBy>Ilkka Siissalo</cp:lastModifiedBy>
  <cp:lastPrinted>1997-05-19T17:52:20Z</cp:lastPrinted>
  <dcterms:modified xsi:type="dcterms:W3CDTF">1997-06-01T10:39:18Z</dcterms:modified>
  <cp:revision>19235</cp:revision>
  <dc:subject/>
  <dc:title>LionNet-esittely</dc:title>
</cp:coreProperties>
</file>