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D38E-824A-488C-9BB4-B18C317D4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D36A-393B-4029-999D-E76079931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D5B0-7A5F-4249-98A8-7D652E1B0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8B30-A9E6-4AEE-977A-6F12668AC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12A4-EB90-4984-8B2E-4BF9F1BF1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05A1-4596-4D3E-9C51-00AA388F0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BE76-1DDD-4C2C-B75F-E2B3D5B68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21F3-8DF5-4657-95EF-9AACD2F64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75BD-62EA-4358-9711-2A09F4010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4FFC-6744-41E4-AAD9-0ADEC6996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6225-D888-4036-8445-4746DC194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F31D-44BA-4B01-9010-90B5B824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66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66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66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B8D1AC3-8924-441C-80CE-E31137B465C0}" type="slidenum"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4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5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6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14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18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Click to edit the outline text forma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Second Outline Level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Third Outline Level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Fourth Outline Level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Fifth Outline Level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Sixth Outline Level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Seventh Outline Level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pic>
        <p:nvPicPr>
          <p:cNvPr id="20" name="lionnet_logo-large" descr=""/>
          <p:cNvPicPr/>
          <p:nvPr/>
        </p:nvPicPr>
        <p:blipFill>
          <a:blip r:embed="rId2"/>
          <a:stretch/>
        </p:blipFill>
        <p:spPr>
          <a:xfrm>
            <a:off x="4952880" y="5257800"/>
            <a:ext cx="3552840" cy="857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8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70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80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92468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LionNet  -  On the Net We Serve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8580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Tiedottamisen rinnakkainen media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pic>
        <p:nvPicPr>
          <p:cNvPr id="85" name="lionnet_logo-large" descr=""/>
          <p:cNvPicPr/>
          <p:nvPr/>
        </p:nvPicPr>
        <p:blipFill>
          <a:blip r:embed="rId1"/>
          <a:stretch/>
        </p:blipFill>
        <p:spPr>
          <a:xfrm>
            <a:off x="5257800" y="5638680"/>
            <a:ext cx="3552840" cy="8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1440" y="119160"/>
            <a:ext cx="9142560" cy="6738480"/>
            <a:chOff x="1440" y="119160"/>
            <a:chExt cx="9142560" cy="6738480"/>
          </a:xfrm>
        </p:grpSpPr>
        <p:sp>
          <p:nvSpPr>
            <p:cNvPr id="131" name=""/>
            <p:cNvSpPr/>
            <p:nvPr/>
          </p:nvSpPr>
          <p:spPr>
            <a:xfrm>
              <a:off x="687240" y="6530760"/>
              <a:ext cx="3505320" cy="32688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87240" y="2439720"/>
              <a:ext cx="8456760" cy="7617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82360" y="119160"/>
              <a:ext cx="6696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82360" y="3492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82360" y="5760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82360" y="10350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82360" y="1261800"/>
              <a:ext cx="6696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82360" y="14922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82360" y="17190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82360" y="1949400"/>
              <a:ext cx="66960" cy="63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82360" y="21780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4539960" y="6672240"/>
              <a:ext cx="4332600" cy="64440"/>
              <a:chOff x="4539960" y="6672240"/>
              <a:chExt cx="4332600" cy="64440"/>
            </a:xfrm>
          </p:grpSpPr>
          <p:sp>
            <p:nvSpPr>
              <p:cNvPr id="143" name=""/>
              <p:cNvSpPr/>
              <p:nvPr/>
            </p:nvSpPr>
            <p:spPr>
              <a:xfrm>
                <a:off x="4539960" y="6672240"/>
                <a:ext cx="669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149800" y="6672240"/>
                <a:ext cx="6660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759280" y="6672240"/>
                <a:ext cx="651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368760" y="6672240"/>
                <a:ext cx="651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978600" y="6672240"/>
                <a:ext cx="6660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588080" y="6672240"/>
                <a:ext cx="6660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8197560" y="6672240"/>
                <a:ext cx="669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807400" y="6672240"/>
                <a:ext cx="651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882360" y="806400"/>
              <a:ext cx="66960" cy="63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1440" y="3695400"/>
              <a:ext cx="1909800" cy="1909440"/>
              <a:chOff x="1440" y="3695400"/>
              <a:chExt cx="1909800" cy="1909440"/>
            </a:xfrm>
          </p:grpSpPr>
          <p:sp>
            <p:nvSpPr>
              <p:cNvPr id="153" name=""/>
              <p:cNvSpPr/>
              <p:nvPr/>
            </p:nvSpPr>
            <p:spPr>
              <a:xfrm>
                <a:off x="1440" y="3801600"/>
                <a:ext cx="703440" cy="163944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03000" y="3695400"/>
                <a:ext cx="1308240" cy="190944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42760" y="4500000"/>
                <a:ext cx="100080" cy="11556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1760" y="190512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LionNet - organisaatio ja rakenne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LionNet on lionien kansainvälinen palveluverkko Internetissä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pic>
        <p:nvPicPr>
          <p:cNvPr id="158" name="lionnet_logo-large" descr=""/>
          <p:cNvPicPr/>
          <p:nvPr/>
        </p:nvPicPr>
        <p:blipFill>
          <a:blip r:embed="rId1"/>
          <a:stretch/>
        </p:blipFill>
        <p:spPr>
          <a:xfrm>
            <a:off x="5257800" y="5638680"/>
            <a:ext cx="3552840" cy="8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...LionNetin hierarki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ansainvälinen taso - LionNet International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ansallinen taso - LionNet Finland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piiritaso - </a:t>
            </a:r>
            <a:r>
              <a:rPr b="1" lang="en-US" sz="2400" spc="-1" strike="noStrike">
                <a:solidFill>
                  <a:srgbClr val="660066"/>
                </a:solidFill>
                <a:latin typeface="Goudy Old Style"/>
              </a:rPr>
              <a:t>esim.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 </a:t>
            </a:r>
            <a:r>
              <a:rPr b="1" lang="en-US" sz="2400" spc="-1" strike="noStrike">
                <a:solidFill>
                  <a:srgbClr val="660066"/>
                </a:solidFill>
                <a:latin typeface="Goudy Old Style"/>
              </a:rPr>
              <a:t>LionNet Finland - district 107-B</a:t>
            </a:r>
            <a:endParaRPr b="1" lang="en-US" sz="24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lubitaso - </a:t>
            </a:r>
            <a:r>
              <a:rPr b="1" lang="en-US" sz="2400" spc="-1" strike="noStrike">
                <a:solidFill>
                  <a:srgbClr val="660066"/>
                </a:solidFill>
                <a:latin typeface="Goudy Old Style"/>
              </a:rPr>
              <a:t>esim. LC Espoo / Meri</a:t>
            </a:r>
            <a:endParaRPr b="1" lang="en-US" sz="24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yksilötaso - </a:t>
            </a:r>
            <a:r>
              <a:rPr b="1" lang="en-US" sz="2400" spc="-1" strike="noStrike">
                <a:solidFill>
                  <a:srgbClr val="660066"/>
                </a:solidFill>
                <a:latin typeface="Goudy Old Style"/>
              </a:rPr>
              <a:t>esim.    www.funet.fi/~siissalo</a:t>
            </a:r>
            <a:endParaRPr b="1" lang="en-US" sz="24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perustieto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mukana on nyt n. 50 kansallista ja osavaltiotason LionNet-palvelusolmua (nodes)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2640" indent="-3326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linkkejä noin 480:ään eri lionien Internet-palveluun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2640" indent="-3326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LionNet Internationalin osoite on www.lionnet.com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660066"/>
              </a:solidFill>
              <a:latin typeface="Goudy Old Style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66"/>
                </a:solidFill>
                <a:latin typeface="Goudy Old Style"/>
              </a:rPr>
              <a:t>Toukokuu 1997</a:t>
            </a:r>
            <a:endParaRPr b="1" lang="en-US" sz="14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kansallinen taso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ansallisella tasolla vain yksi noodi,      esim. LionNet Finland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vastuullinen taho on Suomen Lions-liiton tiedotustoimikunnan alainen LionNet-työryhmä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kansallisen tason toimijat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Nodemaster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LionNet - työryhmä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piirien Internet - toimikuntapuheenjohtaja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piirien Internet - toimikunna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lubien Webmasteri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piiritason kotisivut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piirin perusinformaatio ja hallinto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5880" indent="-3358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ajankohtaiset tapahtuma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5880" indent="-3358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piirin top ten -aktiviteeti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5880" indent="-3358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linkit piirin klubeihin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5880" indent="-3358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piirin lehti ja PK - tiedottee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5880" indent="-3358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60066"/>
                </a:solidFill>
                <a:uFillTx/>
                <a:latin typeface="Goudy Old Style"/>
              </a:rPr>
              <a:t>muista päivitys !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klubitason kotisivut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lubin perusinformaatio ja virkailija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29040" indent="-3290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ajankohtaiset tapahtuma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29040" indent="-3290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lubin parhaat aktiviteeti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29040" indent="-3290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linkit piirin kotisivuille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29040" indent="-3290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lubin lehti ja tiedottee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29040" indent="-3290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vuosikertomus tms.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29040" indent="-3290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60066"/>
                </a:solidFill>
                <a:uFillTx/>
                <a:latin typeface="Goudy Old Style"/>
              </a:rPr>
              <a:t>muista päivitys !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henkilötason kotisivut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monilla lioneilla on jo omia henkilökohtaisia kotisivuja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näihin pääsee klubin kotisivujen kautta,   jos klubit ja jäsenet itse haluava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60066"/>
                </a:solidFill>
                <a:uFillTx/>
                <a:latin typeface="Goudy Old Style"/>
              </a:rPr>
              <a:t>muista päivitys !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Internet - Intranet ?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4796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</a:rPr>
              <a:t>Internet - julkinen, kaikille avoin verkko</a:t>
            </a:r>
            <a:endParaRPr b="1" lang="en-US" sz="2800" spc="-1" strike="noStrike">
              <a:solidFill>
                <a:srgbClr val="660066"/>
              </a:solidFill>
              <a:latin typeface="Goudy Old Style"/>
            </a:endParaRPr>
          </a:p>
          <a:p>
            <a:pPr marL="335880" indent="-335880">
              <a:spcBef>
                <a:spcPts val="700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</a:rPr>
              <a:t>Intranet - Internetin  sisäiseen käyttöön suljettu osaverkko</a:t>
            </a:r>
            <a:endParaRPr b="1" lang="en-US" sz="2800" spc="-1" strike="noStrike">
              <a:solidFill>
                <a:srgbClr val="660066"/>
              </a:solidFill>
              <a:latin typeface="Goudy Old Style"/>
            </a:endParaRPr>
          </a:p>
          <a:p>
            <a:pPr marL="335880" indent="-335880">
              <a:spcBef>
                <a:spcPts val="700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0066"/>
                </a:solidFill>
                <a:uFillTx/>
                <a:latin typeface="Goudy Old Style"/>
              </a:rPr>
              <a:t>Mieti mikä tieto menee kenelle !</a:t>
            </a:r>
            <a:endParaRPr b="1" lang="en-US" sz="2800" spc="-1" strike="noStrike">
              <a:solidFill>
                <a:srgbClr val="660066"/>
              </a:solidFill>
              <a:latin typeface="Goudy Old Style"/>
            </a:endParaRPr>
          </a:p>
        </p:txBody>
      </p:sp>
      <p:pic>
        <p:nvPicPr>
          <p:cNvPr id="175" name="LN-INTRANETKAAVIO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lähtökoht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Internetin käyttäjiä on paljon - miljoona viikoittaista käyttäjää Pohjoismaissa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moni tuntee Internetin myös liiketoimintansa kautta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lähtökoht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erinomainen vuorovaikutteinen tiedonvälityskanava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</a:rPr>
              <a:t>liiketoiminnassa</a:t>
            </a:r>
            <a:endParaRPr b="1" lang="en-US" sz="2800" spc="-1" strike="noStrike">
              <a:solidFill>
                <a:srgbClr val="660066"/>
              </a:solidFill>
              <a:latin typeface="Goudy Old Style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</a:rPr>
              <a:t>harrastustoiminnassa</a:t>
            </a:r>
            <a:endParaRPr b="1" lang="en-US" sz="2800" spc="-1" strike="noStrike">
              <a:solidFill>
                <a:srgbClr val="660066"/>
              </a:solidFill>
              <a:latin typeface="Goudy Old Style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</a:rPr>
              <a:t>kansainvälisen järjestön yhteydenpidossa</a:t>
            </a:r>
            <a:endParaRPr b="1" lang="en-US" sz="28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...vaihtoehtoinen medi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ajantasaisin tieto löytyy Internetistä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2640" indent="-3326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perinteisen median merkitys ei vähene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2640" indent="-3326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Internet tarjoaa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lvl="1" marL="720720" indent="-277200">
              <a:spcBef>
                <a:spcPts val="700"/>
              </a:spcBef>
              <a:buClr>
                <a:srgbClr val="660066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</a:rPr>
              <a:t>vaihtoehdon</a:t>
            </a:r>
            <a:endParaRPr b="1" lang="en-US" sz="2800" spc="-1" strike="noStrike">
              <a:solidFill>
                <a:srgbClr val="660066"/>
              </a:solidFill>
              <a:latin typeface="Goudy Old Style"/>
            </a:endParaRPr>
          </a:p>
          <a:p>
            <a:pPr lvl="1" marL="720720" indent="-277200">
              <a:spcBef>
                <a:spcPts val="700"/>
              </a:spcBef>
              <a:buClr>
                <a:srgbClr val="660066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</a:rPr>
              <a:t>vuorovaikutteisuuden</a:t>
            </a:r>
            <a:endParaRPr b="1" lang="en-US" sz="2800" spc="-1" strike="noStrike">
              <a:solidFill>
                <a:srgbClr val="660066"/>
              </a:solidFill>
              <a:latin typeface="Goudy Old Style"/>
            </a:endParaRPr>
          </a:p>
          <a:p>
            <a:pPr lvl="1" marL="720720" indent="-277200">
              <a:spcBef>
                <a:spcPts val="700"/>
              </a:spcBef>
              <a:buClr>
                <a:srgbClr val="660066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</a:rPr>
              <a:t>reaaliaikaisuuden</a:t>
            </a:r>
            <a:endParaRPr b="1" lang="en-US" sz="28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1440" y="119160"/>
            <a:ext cx="9142560" cy="6738480"/>
            <a:chOff x="1440" y="119160"/>
            <a:chExt cx="9142560" cy="6738480"/>
          </a:xfrm>
        </p:grpSpPr>
        <p:sp>
          <p:nvSpPr>
            <p:cNvPr id="93" name=""/>
            <p:cNvSpPr/>
            <p:nvPr/>
          </p:nvSpPr>
          <p:spPr>
            <a:xfrm>
              <a:off x="687240" y="6530760"/>
              <a:ext cx="3505320" cy="32688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7240" y="2439720"/>
              <a:ext cx="8456760" cy="7617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82360" y="119160"/>
              <a:ext cx="6696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82360" y="3492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82360" y="5760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82360" y="10350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82360" y="1261800"/>
              <a:ext cx="6696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82360" y="14922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82360" y="17190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82360" y="1949400"/>
              <a:ext cx="66960" cy="63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2360" y="21780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4539960" y="6672240"/>
              <a:ext cx="4332600" cy="64440"/>
              <a:chOff x="4539960" y="6672240"/>
              <a:chExt cx="4332600" cy="64440"/>
            </a:xfrm>
          </p:grpSpPr>
          <p:sp>
            <p:nvSpPr>
              <p:cNvPr id="105" name=""/>
              <p:cNvSpPr/>
              <p:nvPr/>
            </p:nvSpPr>
            <p:spPr>
              <a:xfrm>
                <a:off x="4539960" y="6672240"/>
                <a:ext cx="669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149800" y="6672240"/>
                <a:ext cx="6660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759280" y="6672240"/>
                <a:ext cx="651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368760" y="6672240"/>
                <a:ext cx="651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978600" y="6672240"/>
                <a:ext cx="6660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588080" y="6672240"/>
                <a:ext cx="6660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197560" y="6672240"/>
                <a:ext cx="669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807400" y="6672240"/>
                <a:ext cx="651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882360" y="806400"/>
              <a:ext cx="66960" cy="63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1440" y="3695400"/>
              <a:ext cx="1909800" cy="1909440"/>
              <a:chOff x="1440" y="3695400"/>
              <a:chExt cx="1909800" cy="1909440"/>
            </a:xfrm>
          </p:grpSpPr>
          <p:sp>
            <p:nvSpPr>
              <p:cNvPr id="115" name=""/>
              <p:cNvSpPr/>
              <p:nvPr/>
            </p:nvSpPr>
            <p:spPr>
              <a:xfrm>
                <a:off x="1440" y="3801600"/>
                <a:ext cx="703440" cy="163944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03000" y="3695400"/>
                <a:ext cx="1308240" cy="190944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42760" y="4500000"/>
                <a:ext cx="100080" cy="11556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1760" y="190512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LionNetin histori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057040" y="411480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Lionit kansainvälisinä sillanrakentajina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pic>
        <p:nvPicPr>
          <p:cNvPr id="120" name="lionnet_logo-large" descr=""/>
          <p:cNvPicPr/>
          <p:nvPr/>
        </p:nvPicPr>
        <p:blipFill>
          <a:blip r:embed="rId1"/>
          <a:stretch/>
        </p:blipFill>
        <p:spPr>
          <a:xfrm>
            <a:off x="5257800" y="5638680"/>
            <a:ext cx="3552840" cy="857520"/>
          </a:xfrm>
          <a:prstGeom prst="rect">
            <a:avLst/>
          </a:prstGeom>
          <a:ln w="0">
            <a:noFill/>
          </a:ln>
        </p:spPr>
      </p:pic>
      <p:pic>
        <p:nvPicPr>
          <p:cNvPr id="121" name="BRIDGE1" descr=""/>
          <p:cNvPicPr/>
          <p:nvPr/>
        </p:nvPicPr>
        <p:blipFill>
          <a:blip r:embed="rId2"/>
          <a:stretch/>
        </p:blipFill>
        <p:spPr>
          <a:xfrm>
            <a:off x="7238880" y="533520"/>
            <a:ext cx="1371600" cy="103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LionNet-historia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1995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tammikuu: Suomesta Internetin 5. lions-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  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palvelumaa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huhtikuu: LionNet Finland aloitti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esäkuu: ensiesittely Kokkolan VK:ssa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elokuu: kansainvälisen LionNet-verkon alku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LionNet-historia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815364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1996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esäkuu: Haminan VK maailman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  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ensimmäisenä lions-kokouksena Internetissä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elokuu: Suomen LionNet-työryhmä aloitti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syyskuu: Suomen lionien sähköposti aloitti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marraskuu: LionNet International aloitti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LionNet-historia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838188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1997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maaliskuu: KVN vakinaistaa Suomen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LionNet-työryhmän osaksi tiedotustoimikuntaa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huhtikuu: Suomen piirit nimeävät 1. Internet-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toimikuntapuheenjohtaja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toukokuu: järjestelmällinen Internet-koulutus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aloitetaan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LionNet-historia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838188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1997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toukokuu: Sun lahjoittaa LionNetille oman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palvelinkoneen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esäkuu: Porin VK:ssa näyttävä LionNet-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esiintyminen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syyskuu: Europa Forum...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6:36Z</dcterms:created>
  <dc:creator>LionNet-työryhmä</dc:creator>
  <dc:description/>
  <dc:language>en-US</dc:language>
  <cp:lastModifiedBy>Ilkka Siissalo</cp:lastModifiedBy>
  <cp:lastPrinted>1997-05-19T17:52:20Z</cp:lastPrinted>
  <dcterms:modified xsi:type="dcterms:W3CDTF">1997-05-19T18:55:41Z</dcterms:modified>
  <cp:revision>19235</cp:revision>
  <dc:subject/>
  <dc:title>LionNet-esittely</dc:title>
</cp:coreProperties>
</file>