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0602-333B-47B5-994E-1C0067AEC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48AC-76B1-47A3-9BD4-E728C6085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499C-2175-4D3F-94A0-6F185F0AC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3AD3-9B72-4C8F-AF11-CB4A6130B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71DAA-4433-4F39-888F-EA21E8B2A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CA634-77C3-437E-88BE-EF178B2F6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1915C-4245-485F-A8F7-8D998E361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CDB8A-6C5E-4742-AE01-6A4FA2702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6AB34-5625-4F28-BB5E-84A42F5D8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7F1DE-B79D-4792-972D-5F3CAF08E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851FD-A9C1-45FD-963A-D7FB0161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5FE4-5E18-4BD4-8885-6D493E75E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48812-6F53-4E6E-80E9-76058F43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50F49-9511-402A-A6D8-6D0F8217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EB125-12BC-49C3-8525-5A18F784E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158F6-0063-49FF-BF33-6E458B6D4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9ED86-3DCE-4813-8F6E-84BCFF46D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40E96-EA2C-4974-A875-AD8E3D725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789D3-0645-4227-85BF-0A34B501A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9D7F9-3536-4417-9E3A-D5D01BAAA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668FD-8A56-4D8D-B5C9-82DF2F686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B9A61-1B01-4D8A-A94E-CC880F4B6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8E49-7D76-4D18-A11B-C37FAB4B6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BB524-9294-478A-AF4B-61A176ED0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B99A5-B8A5-4B8C-82B3-54BFD1B6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6A00C-B9ED-4757-ABD8-168961F1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6A56A-426B-4BD5-9B7A-5B56FF3C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5E83F-52F4-4D88-B4BF-0367E9B22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CE4CB-A4A1-4CBE-8315-2C714010C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5EE3C-707B-472D-AA0D-103786A25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9392-F087-4AC8-A7D6-648A70304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6C66-D8D3-47AB-8CBE-A708EC308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8579-E5FE-4821-A834-8135F5AE0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51FB-1653-4EC4-BA8E-3511B7D7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7143-E649-43BF-B3ED-0AD6CB53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0D67-80EF-4C29-A7DB-F3955A2A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4A50B-402C-49B2-AD01-2C03E44F7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A8A9F-9063-4EF0-8D3F-716561A4B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1BFB1-50C6-49E9-BC65-2F4E531E8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04:13:26Z</dcterms:created>
  <dc:creator>Gary Blue</dc:creator>
  <dc:description/>
  <dc:language>en-US</dc:language>
  <cp:lastModifiedBy>Gary Blue</cp:lastModifiedBy>
  <dcterms:modified xsi:type="dcterms:W3CDTF">2005-11-04T04:15:14Z</dcterms:modified>
  <cp:revision>1</cp:revision>
  <dc:subject/>
  <dc:title>Slide 1</dc:title>
</cp:coreProperties>
</file>