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: Tcl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2806BD17-4FC3-4862-885D-26A674E784D1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Introduction To Tcl Scrip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is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ero or more elements separated by white sp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d green b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ces and backslashes for grou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 b {c d e} 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ne\ word two th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-rela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c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lengt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ser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ang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appen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s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e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 {a b {c d e} f} 2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 d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 {red green blue}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blue green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 Struct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appear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 commands that take Tcl scripts as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 list revers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i [expr [llength $a] - 1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 {$i &gt;= 0}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ppend b [lindex $a $i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ncr i -1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wit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r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ti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defines a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b1 x {expr $x-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2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 behave just like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b1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guments can have defa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decr {x {y 1}}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-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oping: local and global 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80880" y="2286000"/>
            <a:ext cx="11430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676520" y="2666880"/>
            <a:ext cx="25909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ist of argument n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286000"/>
            <a:ext cx="838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3880" y="213372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67080" y="2133720"/>
            <a:ext cx="914760" cy="381240"/>
          </a:xfrm>
          <a:custGeom>
            <a:avLst/>
            <a:gdLst/>
            <a:ahLst/>
            <a:rect l="0" t="0" r="r" b="b"/>
            <a:pathLst>
              <a:path fill="none" w="2541" h="1059">
                <a:moveTo>
                  <a:pt x="2541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2971800" y="2133720"/>
            <a:ext cx="0" cy="6094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31449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-length argument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m 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s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$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s $i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3030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 1 2 3 4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rr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rors normally abort commands in progress, application displays error mess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n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{1 2 3 4 5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n [expr {$n + i*i}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Inf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vides stack tr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errorInfo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while executing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expr {$n + i*i}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invoked from within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set n [expr {$n + i*i}]...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("foreach" body line 2)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vanced Error Hand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intercept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atch {expr {2 +}}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2 +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generate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rror "bad argument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olds machine-readable information about errors (e.g. UNIX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n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lu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ing manipulatio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exp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li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su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a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jo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I/O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pe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e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ek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lus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los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a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l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d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ourc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o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w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processe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e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1199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grep foo &lt;&lt; $input | w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ive array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fred) 44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2) [expr $x(fred) + 6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rray names x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fred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sc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leve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v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Tcl interna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fo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nam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r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loa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unknow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cedure invoked when command doesn't ex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s procedures on demand from libr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search path of directo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ing soon (Tcl 7.5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loading of binari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oa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y: Safe-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nt-driven I/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cket sup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substitutions simple: use commands lik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plex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another level of expan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*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[glob *.o]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exec rm [glob *.o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anguage 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parts to learning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Syntax and substitution ru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simple, but may be confusing at fir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learn individually as nee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 structures are commands, not language synta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s And Lists: 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33520" y="129528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s parse cleanly as commands: each element become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create commands safely, use list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Reset -command {set x $initValue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ad when button invok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$initValue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{$initValue}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{{}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[list set x $initValue]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lways works: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\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Syntax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 = commands separated by newlines or semi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= words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variable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[]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command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white space and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{}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all special charac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\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next character, provides C-like substitu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ments (must be at beginning of comman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as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quence of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separated by newlines,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or mo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or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st word i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 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s a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rgum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tring res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; 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ivision Of Responsi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1379520"/>
            <a:ext cx="441972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05120" y="5638680"/>
            <a:ext cx="198108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2476440" y="2895480"/>
            <a:ext cx="1295280" cy="1447920"/>
            <a:chOff x="2476440" y="2895480"/>
            <a:chExt cx="1295280" cy="1447920"/>
          </a:xfrm>
        </p:grpSpPr>
        <p:sp>
          <p:nvSpPr>
            <p:cNvPr id="89" name=""/>
            <p:cNvSpPr/>
            <p:nvPr/>
          </p:nvSpPr>
          <p:spPr>
            <a:xfrm>
              <a:off x="2476440" y="289548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476440" y="3200400"/>
              <a:ext cx="12952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476440" y="411480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476440" y="3809880"/>
              <a:ext cx="8380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476440" y="3505320"/>
              <a:ext cx="3049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2743200" y="16765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171520" y="2057400"/>
            <a:ext cx="14479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743200" y="44197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25146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4800600"/>
            <a:ext cx="30481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257800" y="12636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962520" y="33894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038480" y="552276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10160" y="4648320"/>
            <a:ext cx="37720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s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es string resu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10160" y="1752480"/>
            <a:ext cx="44578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ps commands into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s substitu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Does not interpret values of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rgu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er assigns no meaning to arguments (quoting by default, evaluation is special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x = 4; y =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 4; set y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"x+10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commands assign different meanings to their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1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24/3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"set a 122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Hello -fg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length Abracada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Variable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33520" y="1447920"/>
            <a:ext cx="7696080" cy="488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$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var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name is letters, digits, undersc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66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+$b+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+66+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.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 such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, substitute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with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8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[expr $b+2]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b-3 is [expr $b-3]"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-3 is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ling Word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ds break at white space and semi-colons, excep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uble-quotes prevent break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x is $x; y is $y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ly braces prevent breaks and 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{[expr $b*$c]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kslashes quote special charac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word\ with\ \$\ and\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don't change word struct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two words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295280"/>
            <a:ext cx="8305920" cy="47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(int and double), extra support for string oper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, variable substitution occur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i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l" pos="571680"/>
                <a:tab algn="l" pos="4348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5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($b*4) -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b &lt;= 2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a * cos(2*$b)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-5.0344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b * [fac 4]}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ill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a &lt; "Anne"}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Second of four talks in all-day Tcl/Tk tutorial.  Discusses how to write scripts in Tcl;  ignores Tk and Tcl C interfaces.</dc:description>
  <dc:language>en-US</dc:language>
  <cp:lastModifiedBy>Sun Microsystems</cp:lastModifiedBy>
  <cp:revision>0</cp:revision>
  <dc:subject/>
  <dc:title>An Introduction To Tcl Scripting</dc:title>
</cp:coreProperties>
</file>