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38CE0A-CD5A-4A0E-9F58-9F31BEBB2E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5B0BA6-72CE-4EF9-8893-7532F534E8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77D64A-D6F0-4BCC-A1F9-D06AB52A78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D2D413-1EC5-43DB-A892-827676C8AE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EABA862-58BD-4090-A35F-BD788CEDF8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682D15-E17F-4E91-8600-4303CDBCEE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6FF0F1-0E9E-48AC-BE55-69F0492E1C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2CBE8F-D7B6-499E-8068-BBBB63B34B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72C7D6-DCD4-4A11-A097-116985D7F9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2174B0-AA9C-4DFB-8E4D-42462924A5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FC3F32-4446-41D5-9B94-381D2F7664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320C9B-3CDD-4489-B0F9-AD3505647B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51208C-75C2-4ADD-9483-0EE57AEF6D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91E238-2FA3-48D4-BAA2-5D18B1812A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07FB7F-A364-496C-A7DE-49E1426E97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671002-F96B-4703-9AF4-0E879E0F6D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3D5EE6-F65F-49AF-83D5-AF9CBAE9C1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4EE57E-651C-464F-84D4-4BDB9DED2D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F02EB3-E767-4C99-BC2C-88F3EE6C38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DCB364-87E6-4165-A07D-1278F58090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E78872-5A4B-4D92-9A1D-7A456F2766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A0A3F7-957B-4E9B-BE3C-4254BB6F56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CEC5E8-CC4F-4004-B2CD-6A2CA4FEAF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5AA197-9A45-469A-9021-E6A149787B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5B695-61FF-4B41-BA4F-3D90190924C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2EAE2-872A-4980-BFE6-7ABF056FC5D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29092F7-E8A7-42B2-9EAC-5BC3360DC62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5BE02F2-EF9A-48B5-A585-1130EF5276A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7142D3-D804-4D0A-9EEA-6F56F7E88D7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43E4F2-93DC-40D7-AC3A-0F6F6820C3B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F811E7-0B8F-4CCE-B043-2B35B7AB8D2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7092AC-1EF5-48E0-9C6A-CD690D8E16B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E40241-C68F-4158-9029-3ECCB0A396E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DCFA3D-BA7A-438D-A729-5068B74427E6}"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AE8783-6583-4656-837B-A2881E957662}"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4C3FC0-3960-4F35-AAB3-366A43BA8FF7}"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944161-C78A-421C-A0EF-614D35E1D11B}"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EA0FC1-9012-4124-BDDD-ACF28A397EC7}"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39A440-74FE-4FB8-B31D-C0560EDC0CCD}"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D4A464-F50E-41A6-AD56-069A74D7F3F5}"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321E77-1087-4CAA-8D94-6E0B05C37EA2}"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752B10-D5EF-445D-A874-329134CCD1F5}"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2F49BA-243D-44FF-8F0D-CD9D43334383}"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2F91A2-662E-40B9-9889-FCFEDF7745E8}"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E09D02-3131-4DEC-B836-DC66F3A7E5CB}"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AB85B7-DCDA-465F-853E-6A5ABDD163C1}"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4BF260-3CDE-4B9C-9A9D-D871B00059B5}"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BD49E9-490D-4D15-A3EC-1596211D759E}"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3B7A2C-4BD7-429A-A643-608FFE6B9473}"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9DFCA1-EAA2-47F9-8AE8-C696A3B242F1}"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7147C5-9341-4E12-A81A-5EC0E64A831D}"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E43535-9398-4713-B180-AC32B8CE3F0A}"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20CD61-583F-4463-A223-BBA64CF8E56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41AFBD8-5D93-454A-A5D4-391B28A7265E}"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9ED0F2-B480-4562-9A60-315285068532}"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C9B647-43B6-4E3E-A279-0C813C9CD3FD}"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EFC96C-09DA-41B4-8359-B8B6A658C0C5}"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BE00E8-0296-481D-9868-C1D9FE6253FB}"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F2F8FE-4B3D-4F4B-BCC1-B067094CB796}"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55ED20-19BB-4A86-9F87-3E3028DB3455}"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CEAB5D-E085-458F-927C-D4CC29936CB9}"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61E5D0-B165-4545-B8DA-DCCD86670A9E}"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E67CDF-8F8B-4569-A814-DBEE384045A7}"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60EB4D-3988-4789-934A-BB2B7EE2638A}"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E30BB0-883B-4CFB-A284-F0B8056CDD76}"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8D0D4A-C04B-4866-9FE5-C09EEBB49059}"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4ABC27-BDAA-4785-855B-A115E2FB9558}"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81794E-0BB6-4237-A666-FF33618A5D10}"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8B4C7B-A3C5-481E-9CBA-E44C6E5C84D3}"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DB01BD-E3D4-4E1B-AC23-3C3F1D09E69B}"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93D903-D773-4C4A-A77F-2C0A51279445}"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03FE43-D48C-40C8-B6AB-ED13D221681F}"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049CFF-1E80-467D-A175-FEFA1C17D040}"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57B66D-CF3D-4606-B384-34DB4113BDB9}"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30635A1-AC13-4589-8A58-334827901D20}"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81665E-21B0-4B10-ADB4-4689DA1998FD}"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C247C4-488A-42D5-BDF6-ED6D36FB1401}"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5CBB446-EFB5-4C4A-A05C-DE3F674390FB}"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709447-2031-47E0-BE55-9D010E7DFC30}"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6E7AD3-0207-4CDB-B00B-288FAFAC9643}"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5ED254-0CAC-4C41-B6A0-D7BC99A5CFB6}"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1EE049-F0D0-49E2-B299-426FA046A525}"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C2CEF4-7E05-4A03-9C8E-AFB6E27F54A4}"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E7E4AB-DC7A-4B3F-9B53-E601540E7BA8}"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63EA84-684A-4998-99E1-1532DAA78EE7}"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4A74A79-B5A0-4F62-AFC7-D05E5A702416}"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53BDE6-1F86-4A24-A7FC-295C889A7421}"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71AB7C-BF6A-40A8-B9E5-E17982A6965A}"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062176-026B-4EF7-8DD3-650BE6A99D8E}"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513259-151A-4D57-BDD0-8C1F4478668E}"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FDFC8D-E2CD-4BC0-9DF6-60BCF67A2826}"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0403BFE-BBCB-4ACD-BD8F-576AB86ECC6A}"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D0607D-C56B-48D9-B5FC-E8457E683E7B}"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E53C18-C88F-47E9-ABB1-95A878DB913B}"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C6D46C-17B6-4857-ADFC-0C75085AEC9C}"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B70702-B358-4FA9-ADD5-0CE34954AF31}"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72455C1-8F49-4874-A9F5-383EF610A9D2}"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607878-343D-4E32-B580-B0B65CACBC40}"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E6827C-D41C-4E01-B21F-2DFAF7E57D63}"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75C42A-00C1-4035-BCC2-1C064B24537A}"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F8C69D-B03E-46FF-BD84-9D28FE44183D}"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DC99F4-10F0-442E-90A1-AE7DFC7C1B1C}"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913C33-6EAA-45DD-B485-F6A0E39949B6}"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844061D-6576-4EB2-B72B-693E70E5BCE9}"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AAE2D2-B8FB-4074-9DF4-96547B1BF683}"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8CC565-E3D6-4CA9-A591-9F10193C83BB}"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DAFE7E-ECA0-4A4C-A5E7-A736C6A23F6A}"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5F83B0B-0466-4817-9F4C-A11658DAFBAE}"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332F97-38E7-4203-879C-4731BEE0C9B9}"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0CDD53B-4929-496F-9B82-13E8785596AE}"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B11F18-2AAE-4169-B9BC-D2F807B4355B}"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029547-5D69-4D45-A5E4-BD32439B33DF}"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A87D7E-2B11-405E-9F02-A082E2AD6F77}"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EC3F62-E69C-451F-955F-F421171AE5AB}"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8A39BA-489C-4B3A-9719-F9A928D6C4DD}"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2A7854-293A-4039-A7EA-7A03F2AF46A9}"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90A703-2FF0-415A-9AD1-E68BBFE72144}"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85996C-92E1-4965-83B3-177D89B61B92}"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65AE21-6836-4C5B-918C-C14F90EE3851}"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930A0F-8DCB-4FC7-A0B3-6752605A9F42}"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468E28-3C6C-4B19-943E-FF07CBD840F1}"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D32306-38E0-4812-A629-7FB249329115}"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C0DE79-86B2-4433-824B-894D9707E608}"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E89A72-6648-4242-9273-6726B0C7CBE1}"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95B8A4-55C5-4E83-B39D-581208A80D18}"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415A480-40CA-480A-BF5F-790F6C245440}"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B8269A-E59D-41D7-A3BE-9614B6A7D7BB}"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AF8307-D27F-46FA-93D1-773FA3A6FD37}"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A893F3-BC8B-4C93-A48C-FDC862936454}"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D61D75-BFC0-416F-89D9-C9B951869022}"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3339D7-E578-4AB4-9C9B-ACE5EE139DCA}"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A5683F-C4F2-4EFD-86FE-B871ACA21DA1}"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A724F1-29B8-4F56-B46C-6CC753975B93}"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8FB809-89F2-4BAD-B708-CCB5285627D4}"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EC5338-CB31-420A-803B-4C19E57B01AD}"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DC2B83-75E1-45CB-9514-5BF4FD7E6A9A}"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4AD96E-5668-4E07-8A06-9426E8E802A0}"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003145-0A4B-4A8A-B418-097058B0FFC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A377D2-A1A7-4F74-88F9-C74BC88712FA}"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124DDB-7F70-4FC5-90F6-C222964F1482}"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D407A0-4530-4393-9897-B51F747E88DC}"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B9116D-86B1-463E-8FD8-26AA15644660}"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3A438C-553B-4112-A7A3-1CD1A3CCC7BB}"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8B6FE8-5F69-43D1-82B7-383CBAADC2ED}"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C452EF-9F39-46F7-9C4C-68820D292105}"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FF1A9F-F28D-491B-82A0-9300EF77EF31}"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B895B6-6984-4E81-9AF0-459008CD3679}"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C1C03D-8706-4069-BE61-453F536BC047}"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77E109-A02F-4235-98F3-1C2745019D7D}"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1355F1-C0A2-4569-8095-9089461D78BC}"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8ABE07-C763-4485-A943-7C4B48796BF4}"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A4535A-9ED6-4A3B-96EA-8824B9223373}"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40FE0B-5958-4D31-BCC5-59BFD08185EC}"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FDA708D-17B3-4AE1-BCDE-1B8FB597FD9B}"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6DAFC7-1099-4272-9934-02BF789A606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04053A-F739-46FD-94EC-FB4AC2920D7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A63129-28E3-4241-952A-6A4EFF81011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E5290F-299D-4161-8186-3B5D4C292DF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EA172A-8A98-42DF-BE63-50D5B4DFB90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E61265-B531-490A-8243-D4BE799C67C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4789ACC-4DE5-4507-B79B-7DE4F5E06E2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A2A941-99BE-4372-9E53-234351FCC76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5D648C-5E2A-482F-86A6-5FFB97C22B8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A8BD6A-FB6E-4497-9C13-5A72535DB37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E6D663-1236-49B1-BBAB-4EF37F32BEE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66C85C-045E-4A0F-AB01-41C4AFC2F2E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C5D307-8D4B-4BB2-A49B-5648D03C303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CD47C7-30DA-4F80-B593-A404FCD6642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4363FF-12B9-479C-BC35-B5A757FDF79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E2C844-25F0-4898-A641-913C9E8CD6D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FC9BDA-A5FC-4C9B-80B0-4B1DA1F894C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7DC801-39DA-4CE1-B59A-21F29C7C32A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3B7458-7599-4081-AF54-932C1F24A6E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921A91-A8C5-449D-A35E-2911D92042F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0A50AD-87BF-448F-B3CA-8B4A524C486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B56521-AF96-4875-BAFA-D1149E90D14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0009B4-B469-4885-9452-E05818EF049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193D46-7AB9-4AC5-9267-E6852ACDD41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59548C-5FA1-4CA7-8D1E-938404F1437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BF788A-E97F-4DD9-BCB6-80D56A22EF6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3BFDD6-D424-4E01-A7F7-1FBF34D8442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D623F7-9019-4313-B7DC-259A8E4CAA7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47C9D2-75FB-4FB2-ABC0-3D13A0C62A2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073EE3-216F-4BA6-B81F-1E165940C94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675AED-93F0-44BC-80FB-47CB44722BF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F3DEE7-47BB-49C9-97DE-7B5B5C1341D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F8A66E-97DD-459E-B114-4D5958E3861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7C6C48-4630-4A6F-BBF9-0347E979ABB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FF64FB-93A2-4D6A-BDEC-923E6CE8BFE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06C0DD-F9B9-4A07-895A-61CC69625A1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279F8F-1161-42A8-88CA-C52F1EAF35C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BC9948-74E8-4577-88EE-464A4AB0855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B84DD0-7CB5-4269-80FF-8166267CF9F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AE0648-7609-4F7B-8183-7845A3017E8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1D9C28-A9E2-4D54-922A-6C635C78959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400B1C-5845-43C2-9DB8-B450ABBDD11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2FABA5-38BB-4468-B2EA-4E593B6A6E0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EF9366-8B94-4AD4-8B6B-51DE08B4ED2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A9EA4B-A332-4829-8CC3-9B3611E1059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1028A4-74A7-462C-89C3-5F03E427A03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8655FD-ABD7-43D4-862A-5C4A31C44D9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60A02EA-C87A-4692-8154-53FC8A3BB92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48E680-46E8-470A-983D-C8C333CA07A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4DA46C-E04A-4ED1-9043-C39B1289183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43166F-EE21-44A2-ADD6-A15EBE5069C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CB818C-23A4-48EE-9182-6288A5730CC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AF6513-8201-4A1B-9E4D-66A3B53777A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57DF14-B936-4755-BBC8-231BEF81052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DC2C7F-D887-412A-9379-610FCB9043C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665ACF-C608-48CC-9CFE-18346BACAFD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CB19106-01E5-4B79-ABBF-B8B28BF7FE9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91173E-8548-429D-9FA9-EA8C7766955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9DA4B5-7E14-4B17-BC63-DE587112B8B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FE62A9-04AC-48F0-AFE6-DB607D0F604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920D44-530E-4B3A-BE64-9F3C806DD7A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5E520E-F598-4155-BB57-1496EF50033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D83D60-1553-4859-A0F7-834B12B61CD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0D903E-44B2-40E0-ADC8-790CF417879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71A7EC-CADC-412D-8DC8-FC65CBB7B58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406900-D8A8-46F0-9CDD-E2A8A093E30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FBCDE1-45ED-48E6-806F-16CD072FBE1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B7C82D-0723-4164-9D2E-9155C22AC36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1E5651-2A23-4F66-BEDF-C84E17338A9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72EE4B-3A2C-403B-83A9-A9B1293C685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650800-6D26-4E16-9052-EC1F2A260C0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CBC3412-744E-4405-8030-C91DD081D32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6C6FD4-6F87-418C-B376-BF85005BB2E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14FF00-9DF8-4192-A517-11138FC70FF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B70242-A9C4-4B4B-908C-0EE17EE6192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882817-5C0C-42F6-BFE0-D6CF1B3E02D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AE35DF-98CD-45B4-8855-77F878EB09D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F12329-D916-4B10-A884-5BD2001C1E4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279CD3-C5AD-497C-8698-AC46C91D228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CADECC-AD37-479C-B3EE-5F18A9904A9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B877B1-E880-4FCC-90B3-F71B4869746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B52D93-4D8A-4DD0-A6AE-FC2A0B30197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513A6F-31B9-4413-AB4A-B47AB06E2B7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A984D0-6A09-4189-9339-D99B7B84625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46AD6D-288E-4CA0-BB2C-08DA200A8B1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