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98AAF1-A85E-4A11-B715-3AF555D304D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AA39DEB-03CD-4402-A99B-6D1E951FCD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5D3BC6-CBF5-457B-B279-56D8767065D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81B729A-244D-4700-AFCE-F41F4036643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7A63B2-FE64-4915-82A5-84BF48E05E6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BCADBCA-683E-43E2-AB92-1E032D5D2B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138B8AD-A74B-4890-9676-B8B5ED19D9D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5818C2-5B0C-4EB5-BD01-B01A69690DC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9D1DEE3-8B97-4DB6-9BED-E98800646A6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AA09F6A-4D10-459F-8240-B5AC9F0F8E2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3617F8-D68D-4FA2-808D-C88057ADDE6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EC7D016-0593-447D-9776-3F55D61E43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9D6986-18C0-4EF7-A05E-EDB797DF97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D42255-E2EE-4F33-897C-B8B734A5B6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3F04A0C-B070-4783-B1A4-5D3C82FA65C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DC8A41A-7069-4663-8709-EA2614466DC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29D547D-0F05-45C3-818B-CBE371ECFE6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8C097B5-A700-43D0-BFCA-1B144691D0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042730-AED8-4FA3-B1BB-4A984CD4E29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4D2872-B02F-420B-8A40-437B5B0E1C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804A5D-F1CB-4393-937C-7F06C9641E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7FACB7-ADB9-4911-931C-A4318E8323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E48424-DB13-4FE4-AD91-2DCCE61238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8EEDE4-589D-4AC9-BC8F-B9448605F1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EBA4D7-8BF1-44E7-802F-59F0E4ECD9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304A70-CD15-46C1-9803-5AA649C781D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E04EC71-44A1-4F5B-A0D0-5EC23A7C4C9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9924CEB-513B-425D-9182-9F4F6082C38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C996C5-8470-4E3D-9E6B-4B0EE65F7E55}"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F8132-87D5-4B0C-BCDD-67F232907477}"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9BA467-32CE-4B2B-9601-EDC8FAD71B3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16F338-7081-4F78-9046-5380A5E4E9E9}"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5F65F0-5433-4967-B429-B3C1EE4B6E71}"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C6923-E0B7-43BC-AAC3-12FE63FBD1A5}"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3398AA-163D-44C1-AC67-7DDDAD06BD7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D6454B-64A7-414A-966F-3A4018EF0E57}"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AC5136-F985-467D-A248-D2538F0B7AFA}"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281F36-4890-4BCF-83E2-6E731E432CE6}"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F7B8B-2C16-414A-8A39-2F178E298391}"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3FD2C-BE97-416B-9CEF-0C959ACA7A62}"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13E01-A605-49AF-83E2-A3C9E3B7147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6B143-423D-4A10-955E-4BA8652B1590}"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B8C298-1D4A-4E75-A006-C7B843E75CE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98E769-732F-44BF-8926-DDE545FA5099}"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AB1B36-ABF5-4188-9AFA-C358A0D604B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890C89-7FB9-4A6F-8361-29C4269F3860}"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00D578-8327-47FC-9FAD-D14DAF59ADC3}"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D360C-7893-45F6-A340-4CEF82302B1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44F771-1853-4673-8766-23CEB5A55106}"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CEE3C7-43E7-492F-B6FB-53F67DD4309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602D6-2505-4576-9702-B9BFC951360B}"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35ABA3-758A-4ED2-AFDB-EEE490C7C561}"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64F544-9672-4477-804B-86724A74FADF}"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8D09E7-C935-4574-9722-2534E791BC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F7548-17C1-425F-9BB1-F680F9FAC614}"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AE3EB-DF93-46E8-BB07-7797EE3E1215}"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7F4FE-656D-457B-B74C-90617252F91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A5F3A-6B83-4C20-8D1E-91B45913F64F}"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482D1B-0C4A-4463-B6ED-E59FEA8083EE}"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B02E3-50AB-403A-84F5-90D82F538B4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39608-97C7-4F37-89C6-73F2BEFA8E2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2A6B0E-F3BA-441E-912A-A70C36F81A3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9035F-6ACB-40CD-BE90-C76BA08C7150}"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051C6E-B2F9-4BED-9974-27AE3C2B17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30CEB2-F983-4AA3-A0F8-8234BB6FC19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33BE2-614C-4B47-B955-76D8782DB050}"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CCF86D-3969-4E53-AFB9-1F5C03F030E5}"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05AADE-FDAA-4878-84A7-D9D1B5D473A5}"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6F5F90-7588-4F2B-ACB6-2F44200550FD}"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3B43E-C4CC-469F-85E9-4EE8ED2D618C}"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E980C0-6A45-44D8-B269-7C23C84B59B4}"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7476E9-59A9-4C96-8037-078E633ACA5D}"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14353-D3A2-4EE5-B780-931D2DF63C01}"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2E105C-A395-484A-9108-6BC5484B6BA7}"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1912ED4-A1EB-4B2B-A253-9E363243405D}"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F7A53-68F6-4EEF-A828-E5A9E144DBD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8535A4-82FC-4C70-8302-F052E1C78DF7}"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5277C7B-AD0D-4B32-A205-A5EF470301AA}"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4AA5E6-0E32-42C4-A7F1-3700B3C23441}"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B100D-8F84-4714-B903-BE99CFB56048}"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61465E-CB27-4258-8756-391524DBE04F}"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0AAA96-F694-418C-BEAD-4C9B1844AB49}"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9DAFB0-A8A9-4E34-AE4F-28C9598E1DD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BF54F7-7C64-4332-BA5C-68C3E378FCD4}"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834A80-F990-429D-BA0F-7A17B5B3A2AD}"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70773D-3606-4AC2-A0B9-AE61BE633001}"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CEF37-D519-422B-8E7F-72B95C50AF88}"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8A6FF8-746E-4005-8CA2-196322F5A333}"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9D4185-146C-4717-9E3A-795AE77934E4}"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61803-AAFE-4F72-84AA-E76B2AB2754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A118B-7ACD-4D4A-8B7A-E783BD2CCCC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D1B5200-9D3A-4007-BF0B-D4C2F13AA8AD}"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9730A-987D-4743-B89B-2420538B048E}"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C7DFC9-A887-4ABD-A5B5-B4BBBB644081}"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4DFB90-B97D-46B6-B1AE-BE84C78EF115}"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86D3DC-EB37-4489-BFCD-BEF383FA42D8}"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DF99C22-445B-49F6-91F6-ADB116427C9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074CFC-676E-497E-92FD-009F0C51E60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C12694-CDC0-4575-AFF8-1444D9EE0DD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B05823-7F92-4354-99A6-CC935E363F1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B6ECF-D412-4D1B-99BF-7DE30E6F6194}"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14D765-494A-4973-9B6D-A82818D2830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DBB089-0B6E-4174-AB12-E1EF0A96229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3BD9B4C-08E9-4C7F-80BA-49684AD3B2A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76BC5-0D58-4C24-93BC-EA3C351CF27E}"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60246A-220E-43C2-A6FB-438899B4EF7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C04753-4A5E-4593-AEFE-69EE9FF7478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4464AB1-6A0A-4F8D-BA93-BB197BE4AD5F}"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38BFEB-7E73-47AD-9826-2C1A59AB2522}"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1D8C14A-F136-4D16-9B96-06758F8A22D3}"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01D800-B5AE-4B17-9BE5-9F7F4A6CE1EF}"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88562F-383B-4670-8279-78EF207C416D}"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E386E-6548-44F9-9B17-1CC981FA163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20D3C-2417-4EEE-8EDF-35EF07E349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B8DE67-CA14-4A92-B73C-FA2DC3EE14DA}"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C1984-9A2F-4AB9-90C7-3BC841E8C18F}"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DF7C4-9595-4D91-A7A1-4A120211FA5F}"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5CA96D-22BD-414F-A2A9-41C6E2E0B29E}"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A33BE1-7E12-4587-8F0F-8462DCDFF88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A9A50A-3574-4BB8-9364-7607992349D9}"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57990B-EBFD-4226-91A7-F584DC71E1A7}"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6C61D-CD54-4F83-BB43-EBF492D7B76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C2F454-8551-44C2-BB9E-FADFE3E8B52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52E1EE-A847-409A-B21A-4E5B1C574224}"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39787E-0F34-4112-87FA-B834EBB9F398}"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BBE4027-B3AA-41BE-AD67-12F8A3914B41}"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B641CC-6014-4DE2-85FA-F3450A98DF2A}"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29621C-71F3-4223-94E6-A4D2EC1BF136}"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AFA8C-D782-4108-8F07-48A8D6ADE71E}"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F9AD4-2146-497C-B354-31571CA0601C}"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D2A03F-319C-4BE7-89C4-7D241A40C6C5}"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014B6-08B5-43B5-80FE-0D35356B076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1E93F-F776-44DD-A16B-8C3BE087D148}"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B9C96-D523-4F59-BED4-4D24EE4ABA32}"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C78EA2-DFB5-462B-A515-1E5230C1CA6C}"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50CAA6-2992-4AB9-BA3A-DD71BA4CD35E}"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513E3-7FA5-47D9-AC3A-3AF3EDA3C4A8}"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E1C4AE-A8B7-460F-AB7D-3D898FEFE80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4DC47-A7E2-40F9-A4EA-5B70E3C47659}"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67EF05-955F-4171-B2EA-714FC05335D8}"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5D160A-524E-4960-B483-4C473AF36DE8}"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2599D9-6AF0-4B6E-8D53-1C0C0BB66F1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E75375-81BF-40D3-9D1F-F4F9D33450E3}"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2EDF14-1AA6-45AD-BC4C-F82FEF1B0C9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055CAC-C0EF-4D91-B510-E9AA172056F8}"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87C07E-9E2D-4142-9F8B-FF270082A8D7}"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8F8AA1-F19F-4991-9959-BBDDB8B1398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DC0175-FEB8-41D6-B7B3-0562A8789768}"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EDE2D-E6EF-4C6D-A671-905F735869B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3EC216-B128-4027-B4B3-87479613A30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47890C-B774-4874-95F4-77F5435DD93A}"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8323A3-E805-4C63-8AC0-BC241C409CED}"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D34191-04C5-4367-AB53-B5EB33EFC849}"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C228C9-33DE-452A-B031-44D7F40C95B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BDF193-6DFF-4744-91DE-9C92C7C03586}"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932AA8-5EDC-4C79-9E02-F6A2AAC93AE7}"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12A57B-E765-4716-80E0-F7DA1AD2248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13DA6B-AA4B-48C9-ACC6-35F067ECBCA9}"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2BA92-EC4D-43D6-9CF6-47A972A4AEF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76AF1A-8B30-4167-A089-0A0F25FA44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FBE15C7-C4FF-49C5-BE62-2E99BFEAB28B}"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A0B9DF-9622-4ADB-B82C-32DF04824C5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5CC111-B806-480C-9440-4F2EB37A21C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376EB8-F1C1-45B9-B832-575794EB256F}"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F6189-C63E-46CE-8153-98290A0AD83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2E05EB-5FBE-4D18-BC4C-676E2FA68B5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E3A05A-F25D-4BE4-9D5F-DDF78CF4C8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454313-4D71-499B-904C-46F435DFDA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9BAFFB-C86B-4489-B825-58010596F59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B607C8-54A2-4DA6-9D36-67ED714F0C4F}"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889B2-0EA2-4A7A-84C9-1620F3D658B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663531-8CBE-47B3-888A-3448EEE5FC8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5E230D-1965-4318-A994-1421867FA773}"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5CD98D-F8EF-4A05-B2F1-4328497A2A8B}"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00EC68-AA14-4710-BF0A-B70FC6662563}"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23B83-14BE-4138-A245-1BD38A258FA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796584-4508-493C-AF4C-0BE2A6A9C23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91AF9-2055-43E7-8923-4FB478666CC4}"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6BC36A-7F14-468B-9CAE-AE9E96D3065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AF5E-6678-47A0-B4EF-305BEDF6CA2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85439B-03A5-4907-8398-5729B40862D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E2F60-564B-41CA-B508-89E08365C4C1}"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FD2DB6-1B96-4AE5-A0FE-59C5FB951021}"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D63EC0-435D-4277-90FC-935C96C4581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1AD0F1-DBC3-4E5F-9A76-3A0F5D322D3B}"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4EAE5-15B9-4ABA-BC49-1CA298103DFE}"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166901-7908-418D-92B8-CC95F0F710DA}"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CE0F3E-E843-4F00-8806-9B6A89404C7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C724F1-D015-4FC3-A25B-2CCF9CCACAFF}"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934608-B32E-4BCF-ADB7-F45850D5D5E5}"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81B872-A765-4791-9C10-89FF87F34CD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D77B4-987C-4CA9-97EA-2F343F5C21C4}"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B70E56-B149-4248-B1A5-D4666E3483AD}"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6DDF39-28D4-4232-94E2-AA498DC35753}"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C973C8-AB45-4AB5-92D7-18CBF5AD418F}"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2F6568-745D-4C3A-B1B2-FFE0E914FBE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DE737-4F99-41AA-A82D-4167D7C22FC3}"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FAD8ED-442D-4E8D-BA58-3823C9A1FCA5}"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271318-85B9-4A6B-AC81-ED85A2F067B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9AD953-D766-45D9-9E18-126526FE3236}"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60A48C-E652-4658-B4BD-BA1142F8D57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AFE683-FFDE-4395-B1A5-D034EB601D16}"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61D2E-549B-421E-B34A-D705BBA2FB07}"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A44E22-F0B8-481B-AACD-BFB08072833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71B7C1-B331-4DCE-BFD1-9D9A5A84A98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010AD-4E38-4755-8257-AE420CD9564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1F94FA-8068-4232-AE13-3708AB316FBD}"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25B0B1-2247-43E5-9404-02FC3F6A0067}"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1FEA65-2424-48E8-8E4A-35FAD4D98896}"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482A23-99DB-4976-9A0E-419C813B3CE6}"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00149D3-3779-4F92-B790-7324ACF304AD}"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84D5B-A47D-4A85-B276-6AA8BDE3DEF1}"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49EA1-A97B-44A5-9FC7-508BE1067F71}"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A86D2-4339-4D56-8785-1A7C16DEDBCB}"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EC644-DCC1-488F-BBDF-886E40B3240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3C414A-79D0-45E4-A6A1-EBF829D15E7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7AC2A3-C26A-4E40-8F96-56DD05016FA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B1E255-4390-45AC-8428-C5CE83C55CD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297E12-7182-4A6B-94A7-D9DD8A10A7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B790D8-46D3-41A5-8276-098A7FF9CD2E}"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335820-6361-4A41-A5AE-5C92847CDE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D9EF6-523B-48CD-88AA-40C25C8820D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990AA8-6D3A-4114-AA16-F905D8A02639}"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E838BA-71CB-4209-BBA3-C6AD462D1407}"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E8B41-98EE-4DEE-A2E8-137F93AFA41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C439F35-1477-477C-8874-2BAF724FF53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47D37A-B01C-4EA6-87E5-97FB259D5DD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32FB9F-4218-4131-8B84-2BD25CF8BAD7}"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B1F867-E2FC-463F-81F8-BEC4D0AA8BE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4C499-5CD5-454C-80FE-230931CD4985}"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12E36C-2D8F-4C4B-83D0-A1AA1CC21F1A}"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824D4-9C69-4C7B-8D34-77C2DC87BAF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9C48CC-8519-4F95-901A-A873E511B3AF}"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75F2DD-5486-41A2-BEDF-CC9543A938C7}"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DC08D-8C34-465C-80C7-195C46C38BB2}"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F96ED-DA71-4746-A557-255D645E1D6D}"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0259F4-6FCD-4EF7-8813-67427DD1AFB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F56B35-A9D8-46AE-A62C-5AA663090019}"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809B93-8ACE-4BCA-B7FC-2058235584B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